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1.png" ContentType="image/png"/>
  <Override PartName="/ppt/media/image51.jpeg" ContentType="image/jpeg"/>
  <Override PartName="/ppt/media/image49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46.jpeg" ContentType="image/jpeg"/>
  <Override PartName="/ppt/media/image58.png" ContentType="image/png"/>
  <Override PartName="/ppt/media/image80.wmf" ContentType="image/x-wmf"/>
  <Override PartName="/ppt/media/image44.jpeg" ContentType="image/jpeg"/>
  <Override PartName="/ppt/media/image38.png" ContentType="image/png"/>
  <Override PartName="/ppt/media/image60.wmf" ContentType="image/x-wmf"/>
  <Override PartName="/ppt/media/image43.jpeg" ContentType="image/jpeg"/>
  <Override PartName="/ppt/media/image93.png" ContentType="image/png"/>
  <Override PartName="/ppt/media/image42.jpeg" ContentType="image/jpeg"/>
  <Override PartName="/ppt/media/camera.wav" ContentType="audio/x-wav"/>
  <Override PartName="/ppt/media/image18.png" ContentType="image/png"/>
  <Override PartName="/ppt/media/image59.jpeg" ContentType="image/jpeg"/>
  <Override PartName="/ppt/media/image83.png" ContentType="image/png"/>
  <Override PartName="/ppt/media/image41.png" ContentType="image/png"/>
  <Override PartName="/ppt/media/image3.jpeg" ContentType="image/jpeg"/>
  <Override PartName="/ppt/media/image40.jpeg" ContentType="image/jpeg"/>
  <Override PartName="/ppt/media/image13.wmf" ContentType="image/x-wmf"/>
  <Override PartName="/ppt/media/image36.png" ContentType="image/png"/>
  <Override PartName="/ppt/media/image34.wmf" ContentType="image/x-wmf"/>
  <Override PartName="/ppt/media/image56.jpeg" ContentType="image/jpeg"/>
  <Override PartName="/ppt/media/image31.jpeg" ContentType="image/jpeg"/>
  <Override PartName="/ppt/media/image28.wmf" ContentType="image/x-wmf"/>
  <Override PartName="/ppt/media/image30.wmf" ContentType="image/x-wmf"/>
  <Override PartName="/ppt/media/image27.png" ContentType="image/png"/>
  <Override PartName="/ppt/media/image99.jpeg" ContentType="image/jpeg"/>
  <Override PartName="/ppt/media/image35.jpeg" ContentType="image/jpeg"/>
  <Override PartName="/ppt/media/image10.png" ContentType="image/png"/>
  <Override PartName="/ppt/media/image39.png" ContentType="image/png"/>
  <Override PartName="/ppt/media/image64.jpeg" ContentType="image/jpeg"/>
  <Override PartName="/ppt/media/image9.png" ContentType="image/png"/>
  <Override PartName="/ppt/media/image37.png" ContentType="image/png"/>
  <Override PartName="/ppt/media/image94.jpeg" ContentType="image/jpeg"/>
  <Override PartName="/ppt/media/image22.wmf" ContentType="image/x-wmf"/>
  <Override PartName="/ppt/media/image100.jpeg" ContentType="image/jpeg"/>
  <Override PartName="/ppt/media/image87.jpeg" ContentType="image/jpeg"/>
  <Override PartName="/ppt/media/image65.jpeg" ContentType="image/jpeg"/>
  <Override PartName="/ppt/media/image92.jpeg" ContentType="image/jpeg"/>
  <Override PartName="/ppt/media/image29.wmf" ContentType="image/x-wmf"/>
  <Override PartName="/ppt/media/image68.jpeg" ContentType="image/jpeg"/>
  <Override PartName="/ppt/media/image79.png" ContentType="image/png"/>
  <Override PartName="/ppt/media/image69.jpeg" ContentType="image/jpeg"/>
  <Override PartName="/ppt/media/image71.jpeg" ContentType="image/jpeg"/>
  <Override PartName="/ppt/media/image74.jpeg" ContentType="image/jpeg"/>
  <Override PartName="/ppt/media/image75.jpeg" ContentType="image/jpeg"/>
  <Override PartName="/ppt/media/image8.png" ContentType="image/png"/>
  <Override PartName="/ppt/media/image85.png" ContentType="image/png"/>
  <Override PartName="/ppt/media/image25.jpeg" ContentType="image/jpeg"/>
  <Override PartName="/ppt/media/image26.jpeg" ContentType="image/jpeg"/>
  <Override PartName="/ppt/media/image72.wmf" ContentType="image/x-wmf"/>
  <Override PartName="/ppt/media/image97.jpeg" ContentType="image/jpeg"/>
  <Override PartName="/ppt/media/image12.png" ContentType="image/png"/>
  <Override PartName="/ppt/media/image91.jpeg" ContentType="image/jpeg"/>
  <Override PartName="/ppt/media/image70.png" ContentType="image/png"/>
  <Override PartName="/ppt/media/image95.jpeg" ContentType="image/jpeg"/>
  <Override PartName="/ppt/media/image96.jpeg" ContentType="image/jpeg"/>
  <Override PartName="/ppt/media/image76.jpeg" ContentType="image/jpeg"/>
  <Override PartName="/ppt/media/image101.jpeg" ContentType="image/jpeg"/>
  <Override PartName="/ppt/media/image88.jpeg" ContentType="image/jpeg"/>
  <Override PartName="/ppt/media/image14.png" ContentType="image/png"/>
  <Override PartName="/ppt/media/image90.jpeg" ContentType="image/jpeg"/>
  <Override PartName="/ppt/media/image63.jpeg" ContentType="image/jpeg"/>
  <Override PartName="/ppt/media/type.wav" ContentType="audio/x-wav"/>
  <Override PartName="/ppt/media/image6.jpeg" ContentType="image/jpeg"/>
  <Override PartName="/ppt/media/image77.jpeg" ContentType="image/jpeg"/>
  <Override PartName="/ppt/media/image55.jpeg" ContentType="image/jpeg"/>
  <Override PartName="/ppt/media/image61.jpeg" ContentType="image/jpeg"/>
  <Override PartName="/ppt/media/image82.wmf" ContentType="image/x-wmf"/>
  <Override PartName="/ppt/media/image86.jpeg" ContentType="image/jpeg"/>
  <Override PartName="/ppt/media/image89.jpeg" ContentType="image/jpeg"/>
  <Override PartName="/ppt/media/image21.png" ContentType="image/png"/>
  <Override PartName="/ppt/media/image20.png" ContentType="image/png"/>
  <Override PartName="/ppt/media/image2.jpeg" ContentType="image/jpeg"/>
  <Override PartName="/ppt/media/image67.wmf" ContentType="image/x-wmf"/>
  <Override PartName="/ppt/media/image15.jpeg" ContentType="image/jpeg"/>
  <Override PartName="/ppt/media/image98.jpeg" ContentType="image/jpeg"/>
  <Override PartName="/ppt/media/image17.png" ContentType="image/png"/>
  <Override PartName="/ppt/media/image32.jpeg" ContentType="image/jpeg"/>
  <Override PartName="/ppt/media/image50.jpeg" ContentType="image/jpeg"/>
  <Override PartName="/ppt/media/image73.jpeg" ContentType="image/jpeg"/>
  <Override PartName="/ppt/media/image24.png" ContentType="image/png"/>
  <Override PartName="/ppt/media/image5.jpeg" ContentType="image/jpeg"/>
  <Override PartName="/ppt/media/image11.png" ContentType="image/png"/>
  <Override PartName="/ppt/media/image81.wmf" ContentType="image/x-wmf"/>
  <Override PartName="/ppt/media/image66.jpeg" ContentType="image/jpeg"/>
  <Override PartName="/ppt/media/image16.wmf" ContentType="image/x-wmf"/>
  <Override PartName="/ppt/media/image45.jpeg" ContentType="image/jpeg"/>
  <Override PartName="/ppt/media/image4.png" ContentType="image/png"/>
  <Override PartName="/ppt/media/image57.png" ContentType="image/png"/>
  <Override PartName="/ppt/media/laser.wav" ContentType="audio/x-wav"/>
  <Override PartName="/ppt/media/image7.png" ContentType="image/png"/>
  <Override PartName="/ppt/media/image19.png" ContentType="image/png"/>
  <Override PartName="/ppt/media/image62.jpeg" ContentType="image/jpeg"/>
  <Override PartName="/ppt/media/image8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tematyka" initials="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<Relationship Id="rId93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3-03-23T13:14:44.749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50E7-EB14-4EC1-AE57-D192B580420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A03A-BF57-4E24-8E72-FA964A0D8B3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0996-B061-4E95-B719-8C55F9A995B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455F-47D1-4903-B77B-C1D66BB0313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4E43-D3F9-4C10-B2EB-40587A375C6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152-5A60-4E62-BD74-93438BA1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D2E9-4141-4AE2-A269-31BB5C52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DDAC-E625-41CD-9B2C-B58A2530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1545-FD20-4286-B122-515FF0A8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AED8-090D-44C5-8B3C-E30DE966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EC8C-EBCD-4360-944E-AAF17F06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27AF-BA72-4BFE-A0D8-2A4F2C08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43C3-08B1-4859-8E35-92A9B4B6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AB23-81FC-4A28-A99F-1160F83C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E781-169A-4EF1-AE43-33708F16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8055-9039-4101-A3BE-5174C995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38DA-7717-4D96-81F8-2B5B0B8A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DCA9-CF67-495E-B0A5-21D7F4F8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203E-D484-48CA-92CB-C420186C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099B-770A-4110-A658-3335D4BB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E9FB-27C4-43CA-8D46-C1707424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82D2-322B-473A-903C-789C24C0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40B8-3416-4F97-8895-24EA85AE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C506-DA0E-4129-8FEA-BB6AD884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9C9E-CC73-4D73-918F-6077AE8E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4A9A-B134-458E-A252-EDB2DC0F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C464-E198-4DE5-AD3F-5BC45FB5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8715-DDF8-4452-AF1F-DE7908DA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A515-EB71-463C-98BD-2EAE50D5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64A6-F63D-49D0-B6AB-E642D9458BD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0D43-3FDF-4364-A20D-F4DABD53A6C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" Target="slide24.xml"/><Relationship Id="rId4" Type="http://schemas.openxmlformats.org/officeDocument/2006/relationships/slide" Target="slide39.xml"/><Relationship Id="rId5" Type="http://schemas.openxmlformats.org/officeDocument/2006/relationships/slide" Target="slide49.xml"/><Relationship Id="rId6" Type="http://schemas.openxmlformats.org/officeDocument/2006/relationships/slide" Target="slide58.xml"/><Relationship Id="rId7" Type="http://schemas.openxmlformats.org/officeDocument/2006/relationships/slide" Target="slide69.xml"/><Relationship Id="rId8" Type="http://schemas.openxmlformats.org/officeDocument/2006/relationships/slide" Target="slide78.xml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wmf"/><Relationship Id="rId3" Type="http://schemas.openxmlformats.org/officeDocument/2006/relationships/slide" Target="slide2.xm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wmf"/><Relationship Id="rId4" Type="http://schemas.openxmlformats.org/officeDocument/2006/relationships/image" Target="../media/image81.wmf"/><Relationship Id="rId5" Type="http://schemas.openxmlformats.org/officeDocument/2006/relationships/image" Target="../media/image82.wmf"/><Relationship Id="rId6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image" Target="../media/image82.wmf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5.png"/><Relationship Id="rId3" Type="http://schemas.openxmlformats.org/officeDocument/2006/relationships/image" Target="../media/image85.png"/><Relationship Id="rId4" Type="http://schemas.openxmlformats.org/officeDocument/2006/relationships/image" Target="../media/image85.png"/><Relationship Id="rId5" Type="http://schemas.openxmlformats.org/officeDocument/2006/relationships/image" Target="../media/image86.jpeg"/><Relationship Id="rId6" Type="http://schemas.openxmlformats.org/officeDocument/2006/relationships/image" Target="../media/image87.jpeg"/><Relationship Id="rId7" Type="http://schemas.openxmlformats.org/officeDocument/2006/relationships/image" Target="../media/image88.jpeg"/><Relationship Id="rId8" Type="http://schemas.openxmlformats.org/officeDocument/2006/relationships/image" Target="../media/image89.jpeg"/><Relationship Id="rId9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87.jpeg"/><Relationship Id="rId3" Type="http://schemas.openxmlformats.org/officeDocument/2006/relationships/image" Target="../media/image86.jpeg"/><Relationship Id="rId4" Type="http://schemas.openxmlformats.org/officeDocument/2006/relationships/image" Target="../media/image90.jpeg"/><Relationship Id="rId5" Type="http://schemas.openxmlformats.org/officeDocument/2006/relationships/image" Target="../media/image88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3.png"/><Relationship Id="rId3" Type="http://schemas.openxmlformats.org/officeDocument/2006/relationships/image" Target="../media/image93.png"/><Relationship Id="rId4" Type="http://schemas.openxmlformats.org/officeDocument/2006/relationships/image" Target="../media/image93.png"/><Relationship Id="rId5" Type="http://schemas.openxmlformats.org/officeDocument/2006/relationships/image" Target="../media/image93.png"/><Relationship Id="rId6" Type="http://schemas.openxmlformats.org/officeDocument/2006/relationships/image" Target="../media/image93.png"/><Relationship Id="rId7" Type="http://schemas.openxmlformats.org/officeDocument/2006/relationships/image" Target="../media/image93.png"/><Relationship Id="rId8" Type="http://schemas.openxmlformats.org/officeDocument/2006/relationships/image" Target="../media/image92.jpeg"/><Relationship Id="rId9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http://wiki.wolnepodreczniki.pl/Matematyka:Gimnazjum/Procenty_1" TargetMode="External"/><Relationship Id="rId2" Type="http://schemas.openxmlformats.org/officeDocument/2006/relationships/hyperlink" Target="http://www.fajslawice.internetdsl.pl/pgf/mat/prezentacje/procenty" TargetMode="External"/><Relationship Id="rId3" Type="http://schemas.openxmlformats.org/officeDocument/2006/relationships/hyperlink" Target="http://www.fajslawice.internetdsl.pl/pgf/mat/prezentacje/procenty" TargetMode="External"/><Relationship Id="rId4" Type="http://schemas.openxmlformats.org/officeDocument/2006/relationships/hyperlink" Target="http://www.fajslawice.internetdsl.pl/pgf/mat/prezentacje/procenty" TargetMode="External"/><Relationship Id="rId5" Type="http://schemas.openxmlformats.org/officeDocument/2006/relationships/hyperlink" Target="http://www.fajslawice.internetdsl.pl/pgf/mat/prezentacje/procenty" TargetMode="External"/><Relationship Id="rId6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981080" y="64008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77080" y="458136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9600" spc="-1" strike="noStrike">
                <a:solidFill>
                  <a:srgbClr val="ff0000"/>
                </a:solidFill>
                <a:latin typeface="Times New Roman"/>
              </a:rPr>
              <a:t>%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4580280"/>
            <a:ext cx="72010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920" y="1484280"/>
            <a:ext cx="749016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...ach ten procent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C3DF-1C69-4E46-9F71-862680E5521D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eżeli mówimy, że 23% Polaków ma niebieskie oczy, to znaczy, że przeciętnie na 100 Polaków jest 23 takich, którzy mają niebieskie ocz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żna też powiedzieć, ż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szystkich Polaków ma niebieskie oczy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549000" cy="7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057B-144D-4759-9542-A9CAB147973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660066"/>
                </a:solidFill>
                <a:latin typeface="Monotype Corsiva"/>
              </a:rPr>
              <a:t>CIEKAWOSTKI</a:t>
            </a:r>
            <a:endParaRPr b="0" lang="en-US" sz="3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cc0099"/>
                </a:solidFill>
                <a:latin typeface="Times New Roman"/>
              </a:rPr>
              <a:t>ZMIANA ZAPISU % W HISTOR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% w XV wi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% w XVII wi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% w XVIII wi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8" descr="C:\Documents and Settings\mama\Pulpit\111px-Percent_1425.png"/>
          <p:cNvPicPr/>
          <p:nvPr/>
        </p:nvPicPr>
        <p:blipFill>
          <a:blip r:embed="rId1"/>
          <a:stretch/>
        </p:blipFill>
        <p:spPr>
          <a:xfrm>
            <a:off x="4859280" y="2349360"/>
            <a:ext cx="1219320" cy="1067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:\Documents and Settings\mama\Pulpit\111px-Percent_1650.png"/>
          <p:cNvPicPr/>
          <p:nvPr/>
        </p:nvPicPr>
        <p:blipFill>
          <a:blip r:embed="rId2"/>
          <a:stretch/>
        </p:blipFill>
        <p:spPr>
          <a:xfrm>
            <a:off x="4859280" y="3716280"/>
            <a:ext cx="1219320" cy="961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Documents and Settings\mama\Pulpit\111px-Percent_18e.png"/>
          <p:cNvPicPr/>
          <p:nvPr/>
        </p:nvPicPr>
        <p:blipFill>
          <a:blip r:embed="rId3"/>
          <a:stretch/>
        </p:blipFill>
        <p:spPr>
          <a:xfrm>
            <a:off x="4859280" y="5013360"/>
            <a:ext cx="1219320" cy="96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27A9-7D24-4660-ACAA-6840CF5DF332}" type="slidenum">
              <a:t>11</a:t>
            </a:fld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cc"/>
                </a:solidFill>
                <a:latin typeface="Times New Roman"/>
              </a:rPr>
              <a:t>Zadanie  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Ile procent figury zamalowano?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7" name="" descr="Procenty def zad1.svg"/>
          <p:cNvPicPr/>
          <p:nvPr/>
        </p:nvPicPr>
        <p:blipFill>
          <a:blip r:embed="rId1"/>
          <a:stretch/>
        </p:blipFill>
        <p:spPr>
          <a:xfrm>
            <a:off x="1042920" y="1916280"/>
            <a:ext cx="7272360" cy="283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C030-D00F-4852-A7D4-A52B1DA58CD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Skracanie ułamków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Ułamki, które mają w mianowniku 100, możemy skracać do najprostszej posta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164360" y="2637000"/>
            <a:ext cx="1595520" cy="2496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635280" y="3141720"/>
            <a:ext cx="3143520" cy="1973160"/>
          </a:xfrm>
          <a:prstGeom prst="wedgeRoundRectCallout">
            <a:avLst>
              <a:gd name="adj1" fmla="val 70907"/>
              <a:gd name="adj2" fmla="val -48550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Zauważyłam, ż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25% to ćwiart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50% to połow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75% to trzy ćwiartki,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100% to całoś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3505320"/>
            <a:ext cx="1828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25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50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75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981080" y="3505320"/>
                <a:ext cx="1144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905120" y="4267080"/>
                <a:ext cx="9144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905120" y="3295800"/>
                <a:ext cx="990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05120" y="5181480"/>
                <a:ext cx="838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F6C8-15C9-41D4-990E-617F2EFCCBCE}" type="slidenum">
              <a:t>13</a:t>
            </a:fld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‰  </a:t>
            </a: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PROMI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Jeden promil danej wielkości oznacza jej tysięczną część.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1 ‰ =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np.     5 ‰ =                     p ‰=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500720" y="3213000"/>
                <a:ext cx="7142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635280" y="4437000"/>
                <a:ext cx="779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659640" y="4365720"/>
                <a:ext cx="8445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F4F6-9926-4FC5-8D3A-903B9F2669B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33cc"/>
                </a:solidFill>
                <a:latin typeface="Monotype Corsiva"/>
              </a:rPr>
              <a:t>Zależność między procentami a promilami.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771640" y="2852280"/>
            <a:ext cx="4176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1‰= 0,1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10‰=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Plik:Promil.png"/>
          <p:cNvPicPr/>
          <p:nvPr/>
        </p:nvPicPr>
        <p:blipFill>
          <a:blip r:embed="rId1"/>
          <a:stretch/>
        </p:blipFill>
        <p:spPr>
          <a:xfrm>
            <a:off x="5508720" y="3500280"/>
            <a:ext cx="2971800" cy="21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7B1C-76B9-4E1D-A7D9-B55494343D2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Zamiana ułamków na procenty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Times New Roman"/>
              </a:rPr>
              <a:t>Niektóre ułamki w postaci zwykłej można rozszerzyć do mianownika 100 i potem zamienić na proc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295280" y="2895480"/>
                <a:ext cx="2667240" cy="26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800600" y="2895480"/>
                <a:ext cx="259092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C76B-12BB-4CD1-BE46-DDBE7D605C86}" type="slidenum">
              <a:t>16</a:t>
            </a:fld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Oczywiście nie każdy ułamek zwykły da się rozszerzyć do mianownika 100. Wówczas należy zastosować sposób drugi.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59280" y="692280"/>
            <a:ext cx="24681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Sposób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64000" y="3357720"/>
            <a:ext cx="2664000" cy="264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5E28-59EA-423C-AEBB-1CB25B9DC90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140360" y="4292640"/>
                <a:ext cx="4078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2670120" cy="34686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40360" y="907920"/>
            <a:ext cx="4343400" cy="2016360"/>
          </a:xfrm>
          <a:prstGeom prst="wedgeRoundRectCallout">
            <a:avLst>
              <a:gd name="adj1" fmla="val -79314"/>
              <a:gd name="adj2" fmla="val 9999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Gdy procenty chcesz utworzyć, przez 100 % musisz mnożyć</a:t>
            </a:r>
            <a:r>
              <a:rPr b="1" i="1" lang="pl-PL" sz="3200" spc="-1" strike="noStrike">
                <a:solidFill>
                  <a:srgbClr val="ff0000"/>
                </a:solidFill>
                <a:latin typeface="Monotype Corsiva"/>
              </a:rPr>
              <a:t>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03280" y="3860640"/>
            <a:ext cx="545940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1</a:t>
            </a:r>
            <a:br>
              <a:rPr sz="2800"/>
            </a:b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Zamień liczbę         na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116000" y="5373720"/>
                <a:ext cx="70563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5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E501-B46E-43E3-80AA-330ECB46D6B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Przykład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547640" y="1798560"/>
            <a:ext cx="691200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1752-7ABA-428B-9943-B5EE17A56E8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Spis treśc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" descr="Obraz,Plakat - Rabais, redukcja, promocje ou soldes"/>
          <p:cNvPicPr/>
          <p:nvPr/>
        </p:nvPicPr>
        <p:blipFill>
          <a:blip r:embed="rId1"/>
          <a:stretch/>
        </p:blipFill>
        <p:spPr>
          <a:xfrm>
            <a:off x="5958000" y="1557360"/>
            <a:ext cx="2717640" cy="295128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1763640" y="170028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y, promile i ułamk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1116000" y="234936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y na wykresac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4" action="ppaction://hlinksldjump"/>
          </p:cNvPr>
          <p:cNvSpPr/>
          <p:nvPr/>
        </p:nvSpPr>
        <p:spPr>
          <a:xfrm>
            <a:off x="1619280" y="2997360"/>
            <a:ext cx="3816360" cy="57600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43038" h="21600">
                <a:moveTo>
                  <a:pt x="0" y="0"/>
                </a:moveTo>
                <a:lnTo>
                  <a:pt x="143038" y="0"/>
                </a:lnTo>
                <a:lnTo>
                  <a:pt x="143038" y="21600"/>
                </a:lnTo>
                <a:lnTo>
                  <a:pt x="0" y="21600"/>
                </a:lnTo>
                <a:close/>
              </a:path>
              <a:path fill="lightenLess" w="143038" h="21600">
                <a:moveTo>
                  <a:pt x="0" y="0"/>
                </a:moveTo>
                <a:lnTo>
                  <a:pt x="143038" y="0"/>
                </a:lnTo>
                <a:lnTo>
                  <a:pt x="141638" y="1400"/>
                </a:lnTo>
                <a:lnTo>
                  <a:pt x="1400" y="1400"/>
                </a:lnTo>
                <a:close/>
              </a:path>
              <a:path fill="darken" w="143038" h="21600">
                <a:moveTo>
                  <a:pt x="143038" y="0"/>
                </a:moveTo>
                <a:lnTo>
                  <a:pt x="143038" y="21600"/>
                </a:lnTo>
                <a:lnTo>
                  <a:pt x="141638" y="20200"/>
                </a:lnTo>
                <a:lnTo>
                  <a:pt x="141638" y="1400"/>
                </a:lnTo>
                <a:close/>
              </a:path>
              <a:path fill="darkenLess" w="143038" h="21600">
                <a:moveTo>
                  <a:pt x="14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38" y="20200"/>
                </a:lnTo>
                <a:close/>
              </a:path>
              <a:path fill="lighten" w="14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Jaki to procen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5" action="ppaction://hlinksldjump"/>
          </p:cNvPr>
          <p:cNvSpPr/>
          <p:nvPr/>
        </p:nvSpPr>
        <p:spPr>
          <a:xfrm>
            <a:off x="1187280" y="3645000"/>
            <a:ext cx="3816360" cy="57600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43038" h="21600">
                <a:moveTo>
                  <a:pt x="0" y="0"/>
                </a:moveTo>
                <a:lnTo>
                  <a:pt x="143038" y="0"/>
                </a:lnTo>
                <a:lnTo>
                  <a:pt x="143038" y="21600"/>
                </a:lnTo>
                <a:lnTo>
                  <a:pt x="0" y="21600"/>
                </a:lnTo>
                <a:close/>
              </a:path>
              <a:path fill="lightenLess" w="143038" h="21600">
                <a:moveTo>
                  <a:pt x="0" y="0"/>
                </a:moveTo>
                <a:lnTo>
                  <a:pt x="143038" y="0"/>
                </a:lnTo>
                <a:lnTo>
                  <a:pt x="141638" y="1400"/>
                </a:lnTo>
                <a:lnTo>
                  <a:pt x="1400" y="1400"/>
                </a:lnTo>
                <a:close/>
              </a:path>
              <a:path fill="darken" w="143038" h="21600">
                <a:moveTo>
                  <a:pt x="143038" y="0"/>
                </a:moveTo>
                <a:lnTo>
                  <a:pt x="143038" y="21600"/>
                </a:lnTo>
                <a:lnTo>
                  <a:pt x="141638" y="20200"/>
                </a:lnTo>
                <a:lnTo>
                  <a:pt x="141638" y="1400"/>
                </a:lnTo>
                <a:close/>
              </a:path>
              <a:path fill="darkenLess" w="143038" h="21600">
                <a:moveTo>
                  <a:pt x="14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38" y="20200"/>
                </a:lnTo>
                <a:close/>
              </a:path>
              <a:path fill="lighten" w="14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odwyżki i obniżk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6" action="ppaction://hlinksldjump"/>
          </p:cNvPr>
          <p:cNvSpPr/>
          <p:nvPr/>
        </p:nvSpPr>
        <p:spPr>
          <a:xfrm>
            <a:off x="2050920" y="429264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 a pienią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7" action="ppaction://hlinksldjump"/>
          </p:cNvPr>
          <p:cNvSpPr/>
          <p:nvPr/>
        </p:nvSpPr>
        <p:spPr>
          <a:xfrm>
            <a:off x="3132000" y="494172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y i kalkulat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8" action="ppaction://hlinksldjump"/>
          </p:cNvPr>
          <p:cNvSpPr/>
          <p:nvPr/>
        </p:nvSpPr>
        <p:spPr>
          <a:xfrm>
            <a:off x="4500720" y="5589720"/>
            <a:ext cx="3816360" cy="57600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43038" h="21600">
                <a:moveTo>
                  <a:pt x="0" y="0"/>
                </a:moveTo>
                <a:lnTo>
                  <a:pt x="143038" y="0"/>
                </a:lnTo>
                <a:lnTo>
                  <a:pt x="143038" y="21600"/>
                </a:lnTo>
                <a:lnTo>
                  <a:pt x="0" y="21600"/>
                </a:lnTo>
                <a:close/>
              </a:path>
              <a:path fill="lightenLess" w="143038" h="21600">
                <a:moveTo>
                  <a:pt x="0" y="0"/>
                </a:moveTo>
                <a:lnTo>
                  <a:pt x="143038" y="0"/>
                </a:lnTo>
                <a:lnTo>
                  <a:pt x="141638" y="1400"/>
                </a:lnTo>
                <a:lnTo>
                  <a:pt x="1400" y="1400"/>
                </a:lnTo>
                <a:close/>
              </a:path>
              <a:path fill="darken" w="143038" h="21600">
                <a:moveTo>
                  <a:pt x="143038" y="0"/>
                </a:moveTo>
                <a:lnTo>
                  <a:pt x="143038" y="21600"/>
                </a:lnTo>
                <a:lnTo>
                  <a:pt x="141638" y="20200"/>
                </a:lnTo>
                <a:lnTo>
                  <a:pt x="141638" y="1400"/>
                </a:lnTo>
                <a:close/>
              </a:path>
              <a:path fill="darkenLess" w="143038" h="21600">
                <a:moveTo>
                  <a:pt x="14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38" y="20200"/>
                </a:lnTo>
                <a:close/>
              </a:path>
              <a:path fill="lighten" w="14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iczby, procenty i życi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36EA-3C74-4281-B6B0-1A6F29A44B8E}" type="slidenum">
              <a:t>2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amiana procentu na ułamek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Procenty zamieniamy na ułamki zwykłe pisząc w liczniku liczbę procentów, a w mianowniku 1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Później oczywiście można taki ułamek skrócić, lub zamienić na ułamek miesz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564000" y="3068640"/>
            <a:ext cx="4103640" cy="29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4EB3-3884-45C2-BC49-C82A73438DE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2670120" cy="3468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211640" y="83664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procent zamienić na liczbę, należy liczbę wyrażającą procent podzielić przez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49440" y="3716280"/>
            <a:ext cx="470844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2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pisz w postaci ułamka 15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19280" y="5084640"/>
                <a:ext cx="5184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0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922F-4870-4AE2-B15C-AF297B9CA74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Aby zamienić procenty na ułamek dziesiętny, wystarczy przesunąć przecinek o dwa miejsca w lewo.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473440" cy="36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45B4-04E5-4665-817B-EBEB5A24A44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6" name="" descr="Procenty."/>
          <p:cNvPicPr/>
          <p:nvPr/>
        </p:nvPicPr>
        <p:blipFill>
          <a:blip r:embed="rId1"/>
          <a:stretch/>
        </p:blipFill>
        <p:spPr>
          <a:xfrm>
            <a:off x="1042920" y="2060640"/>
            <a:ext cx="7620120" cy="679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608120" y="2772720"/>
            <a:ext cx="592632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  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Zadanie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mień procenty na ułamki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Procenty."/>
          <p:cNvPicPr/>
          <p:nvPr/>
        </p:nvPicPr>
        <p:blipFill>
          <a:blip r:embed="rId2"/>
          <a:stretch/>
        </p:blipFill>
        <p:spPr>
          <a:xfrm>
            <a:off x="971640" y="4653000"/>
            <a:ext cx="7632720" cy="576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187280" y="476280"/>
            <a:ext cx="712800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Zadani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mień ułamki na procent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6948360" y="5734080"/>
            <a:ext cx="1368720" cy="360360"/>
          </a:xfrm>
          <a:custGeom>
            <a:avLst/>
            <a:gdLst>
              <a:gd name="textAreaLeft" fmla="*/ 23040 w 1368720"/>
              <a:gd name="textAreaRight" fmla="*/ 1345680 w 1368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81" h="21600">
                <a:moveTo>
                  <a:pt x="0" y="0"/>
                </a:moveTo>
                <a:lnTo>
                  <a:pt x="81981" y="0"/>
                </a:lnTo>
                <a:lnTo>
                  <a:pt x="81981" y="21600"/>
                </a:lnTo>
                <a:lnTo>
                  <a:pt x="0" y="21600"/>
                </a:lnTo>
                <a:close/>
              </a:path>
              <a:path fill="lightenLess" w="81981" h="21600">
                <a:moveTo>
                  <a:pt x="0" y="0"/>
                </a:moveTo>
                <a:lnTo>
                  <a:pt x="81981" y="0"/>
                </a:lnTo>
                <a:lnTo>
                  <a:pt x="80581" y="1400"/>
                </a:lnTo>
                <a:lnTo>
                  <a:pt x="1400" y="1400"/>
                </a:lnTo>
                <a:close/>
              </a:path>
              <a:path fill="darken" w="81981" h="21600">
                <a:moveTo>
                  <a:pt x="81981" y="0"/>
                </a:moveTo>
                <a:lnTo>
                  <a:pt x="81981" y="21600"/>
                </a:lnTo>
                <a:lnTo>
                  <a:pt x="80581" y="20200"/>
                </a:lnTo>
                <a:lnTo>
                  <a:pt x="80581" y="1400"/>
                </a:lnTo>
                <a:close/>
              </a:path>
              <a:path fill="darkenLess" w="81981" h="21600">
                <a:moveTo>
                  <a:pt x="81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81" y="20200"/>
                </a:lnTo>
                <a:close/>
              </a:path>
              <a:path fill="lighten" w="81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81" h="21600">
                <a:moveTo>
                  <a:pt x="33984" y="3794"/>
                </a:moveTo>
                <a:lnTo>
                  <a:pt x="47997" y="10800"/>
                </a:lnTo>
                <a:lnTo>
                  <a:pt x="33984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7D50-9622-4FA7-99EB-BD487C12B6B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00000" y="2205000"/>
            <a:ext cx="7848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y na wykresach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E60-CA01-418E-AB2E-581C8CF1353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Wiele danych podawanych jest w procentach, dzięki temu możemy je w łatwiejszy sposób analizować i porównywać. Najbardziej czytelnym i efektownym sposobem przedstawiania danych wyrażonych w procentach są diagramy procentow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2" descr="C:\Users\Wolf\AppData\Local\Microsoft\Windows\Temporary Internet Files\Content.IE5\VAQPINRK\MC900290890[1].wmf"/>
          <p:cNvPicPr/>
          <p:nvPr/>
        </p:nvPicPr>
        <p:blipFill>
          <a:blip r:embed="rId1"/>
          <a:stretch/>
        </p:blipFill>
        <p:spPr>
          <a:xfrm>
            <a:off x="5940360" y="4149720"/>
            <a:ext cx="2371680" cy="2071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Wolf\AppData\Local\Microsoft\Windows\Temporary Internet Files\Content.IE5\T6PLSMCI\MC900431584[1].png"/>
          <p:cNvPicPr/>
          <p:nvPr/>
        </p:nvPicPr>
        <p:blipFill>
          <a:blip r:embed="rId2"/>
          <a:stretch/>
        </p:blipFill>
        <p:spPr>
          <a:xfrm>
            <a:off x="1403280" y="3716280"/>
            <a:ext cx="2786040" cy="2786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908000" y="765000"/>
            <a:ext cx="49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66ff"/>
                </a:solidFill>
                <a:latin typeface="Monotype Corsiva"/>
              </a:rPr>
              <a:t>Diagramy procentow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43B7-330D-447B-A90E-F36EDB09C0D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66ff"/>
                </a:solidFill>
                <a:latin typeface="Monotype Corsiva"/>
              </a:rPr>
              <a:t>Diagramy procentowe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1628640"/>
            <a:ext cx="777240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Przykłady diagramów:                            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punkt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 kolum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kolum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lini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95640" y="4941720"/>
            <a:ext cx="129564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494172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5562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38480" y="5486400"/>
            <a:ext cx="5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3280" y="530064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35280" y="45086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Diagram koł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932360" y="2060640"/>
            <a:ext cx="2665440" cy="1530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2664000" cy="13474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476360" y="2565360"/>
            <a:ext cx="2286000" cy="1554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5651640" y="4005360"/>
            <a:ext cx="3095640" cy="183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E4F8-522C-4DC6-8FFE-4C270C9C44D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520" y="9140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99"/>
                </a:solidFill>
                <a:latin typeface="Times New Roman"/>
              </a:rPr>
              <a:t>W sadzie o powierzchni 1 ha rośnie 3000 drzew w tym 40% jabłoni, 25% grusz, 15% śliw, 10% wiśni i 10% czereśni. Informacje te można przedstawić za pomocą różnego rodzaju diagramów procentowych.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619280" y="1989000"/>
            <a:ext cx="3139920" cy="1923840"/>
            <a:chOff x="1619280" y="1989000"/>
            <a:chExt cx="3139920" cy="1923840"/>
          </a:xfrm>
        </p:grpSpPr>
        <p:grpSp>
          <p:nvGrpSpPr>
            <p:cNvPr id="234" name=""/>
            <p:cNvGrpSpPr/>
            <p:nvPr/>
          </p:nvGrpSpPr>
          <p:grpSpPr>
            <a:xfrm>
              <a:off x="1619280" y="2050200"/>
              <a:ext cx="867960" cy="168120"/>
              <a:chOff x="1619280" y="2050200"/>
              <a:chExt cx="867960" cy="168120"/>
            </a:xfrm>
          </p:grpSpPr>
          <p:sp>
            <p:nvSpPr>
              <p:cNvPr id="235" name=""/>
              <p:cNvSpPr/>
              <p:nvPr/>
            </p:nvSpPr>
            <p:spPr>
              <a:xfrm>
                <a:off x="161928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79496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72440" y="2050200"/>
                <a:ext cx="1616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4524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2272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498760" y="2050200"/>
              <a:ext cx="867960" cy="168120"/>
              <a:chOff x="2498760" y="2050200"/>
              <a:chExt cx="867960" cy="168120"/>
            </a:xfrm>
          </p:grpSpPr>
          <p:sp>
            <p:nvSpPr>
              <p:cNvPr id="241" name=""/>
              <p:cNvSpPr/>
              <p:nvPr/>
            </p:nvSpPr>
            <p:spPr>
              <a:xfrm>
                <a:off x="2498760" y="2050200"/>
                <a:ext cx="1634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67336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850840" y="2050200"/>
                <a:ext cx="1634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25800" y="2050200"/>
                <a:ext cx="16488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0220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1619280" y="2230560"/>
              <a:ext cx="867960" cy="168480"/>
              <a:chOff x="1619280" y="2230560"/>
              <a:chExt cx="867960" cy="168480"/>
            </a:xfrm>
          </p:grpSpPr>
          <p:sp>
            <p:nvSpPr>
              <p:cNvPr id="247" name=""/>
              <p:cNvSpPr/>
              <p:nvPr/>
            </p:nvSpPr>
            <p:spPr>
              <a:xfrm>
                <a:off x="161928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79496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72440" y="2230560"/>
                <a:ext cx="1616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14524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32272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2498760" y="2230560"/>
              <a:ext cx="867960" cy="168480"/>
              <a:chOff x="2498760" y="2230560"/>
              <a:chExt cx="867960" cy="168480"/>
            </a:xfrm>
          </p:grpSpPr>
          <p:sp>
            <p:nvSpPr>
              <p:cNvPr id="253" name=""/>
              <p:cNvSpPr/>
              <p:nvPr/>
            </p:nvSpPr>
            <p:spPr>
              <a:xfrm>
                <a:off x="2498760" y="2230560"/>
                <a:ext cx="1634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67336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850840" y="2230560"/>
                <a:ext cx="1634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025800" y="2230560"/>
                <a:ext cx="16488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20220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619280" y="2411640"/>
              <a:ext cx="867960" cy="166680"/>
              <a:chOff x="1619280" y="2411640"/>
              <a:chExt cx="867960" cy="166680"/>
            </a:xfrm>
          </p:grpSpPr>
          <p:sp>
            <p:nvSpPr>
              <p:cNvPr id="259" name=""/>
              <p:cNvSpPr/>
              <p:nvPr/>
            </p:nvSpPr>
            <p:spPr>
              <a:xfrm>
                <a:off x="161928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79496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972440" y="2411640"/>
                <a:ext cx="1616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4524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32272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498760" y="2411640"/>
              <a:ext cx="867960" cy="166680"/>
              <a:chOff x="2498760" y="2411640"/>
              <a:chExt cx="867960" cy="166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498760" y="2411640"/>
                <a:ext cx="1634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67336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50840" y="2411640"/>
                <a:ext cx="1634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25800" y="2411640"/>
                <a:ext cx="16488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20220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1619280" y="2590920"/>
              <a:ext cx="867960" cy="165960"/>
              <a:chOff x="1619280" y="2590920"/>
              <a:chExt cx="867960" cy="165960"/>
            </a:xfrm>
          </p:grpSpPr>
          <p:sp>
            <p:nvSpPr>
              <p:cNvPr id="271" name=""/>
              <p:cNvSpPr/>
              <p:nvPr/>
            </p:nvSpPr>
            <p:spPr>
              <a:xfrm>
                <a:off x="161928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79496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972440" y="2590920"/>
                <a:ext cx="1616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4524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2272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2498760" y="2590920"/>
              <a:ext cx="867960" cy="165960"/>
              <a:chOff x="2498760" y="2590920"/>
              <a:chExt cx="867960" cy="165960"/>
            </a:xfrm>
          </p:grpSpPr>
          <p:sp>
            <p:nvSpPr>
              <p:cNvPr id="277" name=""/>
              <p:cNvSpPr/>
              <p:nvPr/>
            </p:nvSpPr>
            <p:spPr>
              <a:xfrm>
                <a:off x="2498760" y="2590920"/>
                <a:ext cx="1634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67336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850840" y="2590920"/>
                <a:ext cx="1634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025800" y="2590920"/>
                <a:ext cx="16488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20220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1619280" y="2950920"/>
              <a:ext cx="867960" cy="165600"/>
              <a:chOff x="1619280" y="2950920"/>
              <a:chExt cx="867960" cy="165600"/>
            </a:xfrm>
          </p:grpSpPr>
          <p:sp>
            <p:nvSpPr>
              <p:cNvPr id="283" name=""/>
              <p:cNvSpPr/>
              <p:nvPr/>
            </p:nvSpPr>
            <p:spPr>
              <a:xfrm>
                <a:off x="161928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9496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72440" y="2950920"/>
                <a:ext cx="1616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4524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32272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498760" y="2770200"/>
              <a:ext cx="867960" cy="167040"/>
              <a:chOff x="2498760" y="2770200"/>
              <a:chExt cx="867960" cy="167040"/>
            </a:xfrm>
          </p:grpSpPr>
          <p:sp>
            <p:nvSpPr>
              <p:cNvPr id="289" name=""/>
              <p:cNvSpPr/>
              <p:nvPr/>
            </p:nvSpPr>
            <p:spPr>
              <a:xfrm>
                <a:off x="2498760" y="2770200"/>
                <a:ext cx="1634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67336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50840" y="2770200"/>
                <a:ext cx="1634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025800" y="2770200"/>
                <a:ext cx="16488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0220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619280" y="2770200"/>
              <a:ext cx="867960" cy="167040"/>
              <a:chOff x="1619280" y="2770200"/>
              <a:chExt cx="867960" cy="167040"/>
            </a:xfrm>
          </p:grpSpPr>
          <p:sp>
            <p:nvSpPr>
              <p:cNvPr id="295" name=""/>
              <p:cNvSpPr/>
              <p:nvPr/>
            </p:nvSpPr>
            <p:spPr>
              <a:xfrm>
                <a:off x="161928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79496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972440" y="2770200"/>
                <a:ext cx="1616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4524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32272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19280" y="3130200"/>
              <a:ext cx="867960" cy="167040"/>
              <a:chOff x="1619280" y="3130200"/>
              <a:chExt cx="867960" cy="167040"/>
            </a:xfrm>
          </p:grpSpPr>
          <p:sp>
            <p:nvSpPr>
              <p:cNvPr id="301" name=""/>
              <p:cNvSpPr/>
              <p:nvPr/>
            </p:nvSpPr>
            <p:spPr>
              <a:xfrm>
                <a:off x="1619280" y="313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794960" y="313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972440" y="3130200"/>
                <a:ext cx="1616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45240" y="313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322720" y="313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498760" y="2950920"/>
              <a:ext cx="867960" cy="165600"/>
              <a:chOff x="2498760" y="2950920"/>
              <a:chExt cx="867960" cy="165600"/>
            </a:xfrm>
          </p:grpSpPr>
          <p:sp>
            <p:nvSpPr>
              <p:cNvPr id="307" name=""/>
              <p:cNvSpPr/>
              <p:nvPr/>
            </p:nvSpPr>
            <p:spPr>
              <a:xfrm>
                <a:off x="2498760" y="2950920"/>
                <a:ext cx="1634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67336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50840" y="2950920"/>
                <a:ext cx="1634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025800" y="2950920"/>
                <a:ext cx="16488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20220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498760" y="3130200"/>
              <a:ext cx="867960" cy="167040"/>
              <a:chOff x="2498760" y="3130200"/>
              <a:chExt cx="867960" cy="167040"/>
            </a:xfrm>
          </p:grpSpPr>
          <p:sp>
            <p:nvSpPr>
              <p:cNvPr id="313" name=""/>
              <p:cNvSpPr/>
              <p:nvPr/>
            </p:nvSpPr>
            <p:spPr>
              <a:xfrm>
                <a:off x="2498760" y="3130200"/>
                <a:ext cx="16344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673360" y="3130200"/>
                <a:ext cx="16596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50840" y="3130200"/>
                <a:ext cx="16344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25800" y="3130200"/>
                <a:ext cx="16488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02200" y="3130200"/>
                <a:ext cx="16452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1619280" y="3310920"/>
              <a:ext cx="867960" cy="165600"/>
              <a:chOff x="1619280" y="3310920"/>
              <a:chExt cx="867960" cy="165600"/>
            </a:xfrm>
          </p:grpSpPr>
          <p:sp>
            <p:nvSpPr>
              <p:cNvPr id="319" name=""/>
              <p:cNvSpPr/>
              <p:nvPr/>
            </p:nvSpPr>
            <p:spPr>
              <a:xfrm>
                <a:off x="161928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79496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972440" y="3310920"/>
                <a:ext cx="1616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4524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32272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498760" y="3310920"/>
              <a:ext cx="867960" cy="165600"/>
              <a:chOff x="2498760" y="3310920"/>
              <a:chExt cx="867960" cy="165600"/>
            </a:xfrm>
          </p:grpSpPr>
          <p:sp>
            <p:nvSpPr>
              <p:cNvPr id="325" name=""/>
              <p:cNvSpPr/>
              <p:nvPr/>
            </p:nvSpPr>
            <p:spPr>
              <a:xfrm>
                <a:off x="2498760" y="3310920"/>
                <a:ext cx="1634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67336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850840" y="3310920"/>
                <a:ext cx="1634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025800" y="3310920"/>
                <a:ext cx="16488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20220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2498760" y="3669480"/>
              <a:ext cx="867960" cy="168120"/>
              <a:chOff x="2498760" y="3669480"/>
              <a:chExt cx="867960" cy="168120"/>
            </a:xfrm>
          </p:grpSpPr>
          <p:sp>
            <p:nvSpPr>
              <p:cNvPr id="331" name=""/>
              <p:cNvSpPr/>
              <p:nvPr/>
            </p:nvSpPr>
            <p:spPr>
              <a:xfrm>
                <a:off x="2498760" y="3669480"/>
                <a:ext cx="1634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67336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850840" y="3669480"/>
                <a:ext cx="1634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025800" y="3669480"/>
                <a:ext cx="16488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0220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8760" y="3490200"/>
              <a:ext cx="867960" cy="167040"/>
              <a:chOff x="2498760" y="3490200"/>
              <a:chExt cx="867960" cy="167040"/>
            </a:xfrm>
          </p:grpSpPr>
          <p:sp>
            <p:nvSpPr>
              <p:cNvPr id="337" name=""/>
              <p:cNvSpPr/>
              <p:nvPr/>
            </p:nvSpPr>
            <p:spPr>
              <a:xfrm>
                <a:off x="2498760" y="3490200"/>
                <a:ext cx="1634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67336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850840" y="3490200"/>
                <a:ext cx="1634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25800" y="3490200"/>
                <a:ext cx="16488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20220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1619280" y="3490200"/>
              <a:ext cx="867960" cy="167040"/>
              <a:chOff x="1619280" y="3490200"/>
              <a:chExt cx="867960" cy="167040"/>
            </a:xfrm>
          </p:grpSpPr>
          <p:sp>
            <p:nvSpPr>
              <p:cNvPr id="343" name=""/>
              <p:cNvSpPr/>
              <p:nvPr/>
            </p:nvSpPr>
            <p:spPr>
              <a:xfrm>
                <a:off x="161928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79496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972440" y="3490200"/>
                <a:ext cx="1616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14524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32272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1619280" y="3669480"/>
              <a:ext cx="867960" cy="168120"/>
              <a:chOff x="1619280" y="3669480"/>
              <a:chExt cx="867960" cy="168120"/>
            </a:xfrm>
          </p:grpSpPr>
          <p:sp>
            <p:nvSpPr>
              <p:cNvPr id="349" name=""/>
              <p:cNvSpPr/>
              <p:nvPr/>
            </p:nvSpPr>
            <p:spPr>
              <a:xfrm>
                <a:off x="161928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79496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72440" y="3669480"/>
                <a:ext cx="1616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14524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32272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3621240" y="2360880"/>
              <a:ext cx="171360" cy="173160"/>
            </a:xfrm>
            <a:prstGeom prst="rect">
              <a:avLst/>
            </a:prstGeom>
            <a:solidFill>
              <a:srgbClr val="221304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21240" y="2670120"/>
              <a:ext cx="171360" cy="1746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21240" y="2982600"/>
              <a:ext cx="171360" cy="172800"/>
            </a:xfrm>
            <a:prstGeom prst="rect">
              <a:avLst/>
            </a:prstGeom>
            <a:solidFill>
              <a:srgbClr val="3694b6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21240" y="3352680"/>
              <a:ext cx="171360" cy="174600"/>
            </a:xfrm>
            <a:prstGeom prst="rect">
              <a:avLst/>
            </a:prstGeom>
            <a:solidFill>
              <a:srgbClr val="ff33ff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21240" y="3663360"/>
              <a:ext cx="171360" cy="17460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44800" y="1989000"/>
              <a:ext cx="481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785040" y="2272680"/>
              <a:ext cx="884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jabło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84680" y="2586240"/>
              <a:ext cx="74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grus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84680" y="2919600"/>
              <a:ext cx="628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śli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85040" y="326592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wiś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6120" y="3576960"/>
              <a:ext cx="973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czereś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5" name=""/>
          <p:cNvGraphicFramePr/>
          <p:nvPr/>
        </p:nvGraphicFramePr>
        <p:xfrm>
          <a:off x="5168880" y="2057400"/>
          <a:ext cx="284472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8880" y="2057400"/>
                    <a:ext cx="284472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2700360" y="3860640"/>
          <a:ext cx="4968720" cy="23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860640"/>
                    <a:ext cx="496872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4DDA-3C4B-4E40-838D-DBAEFA91CD25}" type="slidenum">
              <a:t>27</a:t>
            </a:fld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1763640" y="2924280"/>
          <a:ext cx="6019920" cy="27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924280"/>
                    <a:ext cx="6019920" cy="2714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618920" y="1412640"/>
            <a:ext cx="7296120" cy="15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Times New Roman"/>
              </a:rPr>
              <a:t>a) jaki smak lodów cieszył się największym powodzeniem? </a:t>
            </a:r>
            <a:br>
              <a:rPr sz="2000"/>
            </a:br>
            <a:r>
              <a:rPr b="1" i="1" lang="pl-PL" sz="2000" spc="-1" strike="noStrike">
                <a:solidFill>
                  <a:srgbClr val="ff9900"/>
                </a:solidFill>
                <a:latin typeface="Times New Roman"/>
              </a:rPr>
              <a:t>b) ile litrów lodów każdego rodzaju sprzedano? </a:t>
            </a:r>
            <a:br>
              <a:rPr sz="2000"/>
            </a:br>
            <a:r>
              <a:rPr b="1" i="1" lang="pl-PL" sz="2000" spc="-1" strike="noStrike">
                <a:solidFill>
                  <a:srgbClr val="008080"/>
                </a:solidFill>
                <a:latin typeface="Times New Roman"/>
              </a:rPr>
              <a:t>c) o ile więcej litrów sprzedano lodów waniliowych niż wiśniowych?</a:t>
            </a:r>
            <a:r>
              <a:rPr b="1" i="1" lang="pl-PL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87280" y="476280"/>
            <a:ext cx="7129800" cy="1678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cc00"/>
                </a:solidFill>
                <a:latin typeface="Times New Roman"/>
              </a:rPr>
              <a:t>W budce z lodami sprzedano 120 litrów lodó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cc00"/>
                </a:solidFill>
                <a:latin typeface="Times New Roman"/>
              </a:rPr>
              <a:t>Na podstawie wykresu odpowiedz na pytania: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C77D-01B1-4A5C-81A4-F87444184C8E}" type="slidenum">
              <a:t>28</a:t>
            </a:fld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0000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Times New Roman"/>
              </a:rPr>
              <a:t>czekoladow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ff99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9900"/>
                </a:solidFill>
                <a:latin typeface="Times New Roman"/>
              </a:rPr>
              <a:t>18 l;  30 l; 24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808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8080"/>
                </a:solidFill>
                <a:latin typeface="Times New Roman"/>
              </a:rPr>
              <a:t>o 6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08160" y="765000"/>
            <a:ext cx="4286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          </a:t>
            </a: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43280" y="299736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0E04-DAC7-4EAA-B169-DE9C3E74FB9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11280" y="1916280"/>
            <a:ext cx="79912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y, promile i ułamki.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B5AF-E68F-48ED-AD29-FF682AA36E2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600200" y="692280"/>
            <a:ext cx="7002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Załóżmy, że rok kalendarzowy ma 360 dni. Diagram przedstawia podział roku kalendarzow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                </a:t>
            </a:r>
            <a:r>
              <a:rPr b="1" lang="pl-PL" sz="2400" spc="-1" strike="noStrike">
                <a:solidFill>
                  <a:srgbClr val="a1bd69"/>
                </a:solidFill>
                <a:latin typeface="Times New Roman"/>
              </a:rPr>
              <a:t>Odpowiedz na pytania:</a:t>
            </a:r>
            <a:br>
              <a:rPr sz="2400"/>
            </a:br>
            <a:r>
              <a:rPr b="1" lang="pl-PL" sz="2400" spc="-1" strike="noStrike">
                <a:solidFill>
                  <a:srgbClr val="009900"/>
                </a:solidFill>
                <a:latin typeface="Monotype Corsiva"/>
              </a:rPr>
              <a:t>a) ile dni trwają zajęcia lekcyjne, a ile wakacje?</a:t>
            </a:r>
            <a:br>
              <a:rPr sz="2400"/>
            </a:br>
            <a:r>
              <a:rPr b="1" lang="pl-PL" sz="2400" spc="-1" strike="noStrike">
                <a:solidFill>
                  <a:srgbClr val="800000"/>
                </a:solidFill>
                <a:latin typeface="Monotype Corsiva"/>
              </a:rPr>
              <a:t>b) </a:t>
            </a:r>
            <a:r>
              <a:rPr b="1" lang="pl-PL" sz="2400" spc="-1" strike="noStrike">
                <a:solidFill>
                  <a:srgbClr val="660066"/>
                </a:solidFill>
                <a:latin typeface="Monotype Corsiva"/>
              </a:rPr>
              <a:t>przez ile dni przebywasz poza szkołą?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Monotype Corsiva"/>
              </a:rPr>
              <a:t>c) jakim procentem zajęć lekcyjnych są wakac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331280" y="3068640"/>
            <a:ext cx="6525360" cy="2807280"/>
            <a:chOff x="1331280" y="3068640"/>
            <a:chExt cx="6525360" cy="2807280"/>
          </a:xfrm>
        </p:grpSpPr>
        <p:sp>
          <p:nvSpPr>
            <p:cNvPr id="379" name=""/>
            <p:cNvSpPr/>
            <p:nvPr/>
          </p:nvSpPr>
          <p:spPr>
            <a:xfrm>
              <a:off x="1331280" y="3068640"/>
              <a:ext cx="249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5632560" y="3468600"/>
              <a:ext cx="2224080" cy="397440"/>
              <a:chOff x="5632560" y="3468600"/>
              <a:chExt cx="2224080" cy="397440"/>
            </a:xfrm>
          </p:grpSpPr>
          <p:sp>
            <p:nvSpPr>
              <p:cNvPr id="381" name=""/>
              <p:cNvSpPr/>
              <p:nvPr/>
            </p:nvSpPr>
            <p:spPr>
              <a:xfrm>
                <a:off x="5995080" y="3468600"/>
                <a:ext cx="1861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"/>
                  </a:rPr>
                  <a:t>Zajęcia szkol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632560" y="3544920"/>
                <a:ext cx="220320" cy="221760"/>
              </a:xfrm>
              <a:prstGeom prst="rect">
                <a:avLst/>
              </a:prstGeom>
              <a:gradFill rotWithShape="0">
                <a:gsLst>
                  <a:gs pos="0">
                    <a:srgbClr val="221304"/>
                  </a:gs>
                  <a:gs pos="100000">
                    <a:srgbClr val="00ff66"/>
                  </a:gs>
                </a:gsLst>
                <a:lin ang="13500000"/>
              </a:gra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2703600" y="3538800"/>
              <a:ext cx="4743720" cy="2337120"/>
              <a:chOff x="2703600" y="3538800"/>
              <a:chExt cx="4743720" cy="233712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2703600" y="3538800"/>
                <a:ext cx="2320920" cy="2337120"/>
                <a:chOff x="2703600" y="3538800"/>
                <a:chExt cx="2320920" cy="233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40380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93688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17016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7036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33728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57056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80384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63708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70360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10364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40380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93688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317016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387036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33728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57056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80384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63708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70360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10364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40380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93688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17016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87036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33728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57056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80384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63708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70360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10364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40380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688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17016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87036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33728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57056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80384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63708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70360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10364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40380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93688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17016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87036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33728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57056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80384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63708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70360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10364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0380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93688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17016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87036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33728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57056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80384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3708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270360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10364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40380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93688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17016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87036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33728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57056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80384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63708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70360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10364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40380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93688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17016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87036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33728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57056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80384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63708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70360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10364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40380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93688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17016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87036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33728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57056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80384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63708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70360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10364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40380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93688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317016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87036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33728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57056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80384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63708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70360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10364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632560" y="4016880"/>
                <a:ext cx="1814760" cy="397440"/>
                <a:chOff x="5632560" y="4016880"/>
                <a:chExt cx="1814760" cy="39744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632560" y="4093560"/>
                  <a:ext cx="219960" cy="22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994360" y="4016880"/>
                  <a:ext cx="14529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Poza szkołą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5632560" y="4487040"/>
                <a:ext cx="1433880" cy="397440"/>
                <a:chOff x="5632560" y="4487040"/>
                <a:chExt cx="1433880" cy="39744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5632560" y="4563720"/>
                  <a:ext cx="220320" cy="22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918400" y="4487040"/>
                  <a:ext cx="11480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Wakacj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D701-AC9A-4B95-BAC8-709B4EC1BC31}" type="slidenum">
              <a:t>30</a:t>
            </a:fld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76320" y="2682720"/>
            <a:ext cx="17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 CE"/>
              </a:rPr>
              <a:t>b)  108 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41840" y="350028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 CE"/>
              </a:rPr>
              <a:t>c)  4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544920" y="1890720"/>
            <a:ext cx="29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Times New Roman CE"/>
              </a:rPr>
              <a:t>a)  180 dni; 72 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116000" y="3435480"/>
            <a:ext cx="4103640" cy="307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D97B-656C-4F8D-9345-DA4A48004A4E}" type="slidenum">
              <a:t>31</a:t>
            </a:fld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danie  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Uczniowie klas pierwszych pew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gimnazjum przedstawili swoje preferen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zorów na ubraniach w postaci diagram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zedstawionego poniże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5076720" y="3284640"/>
            <a:ext cx="3816360" cy="194472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1042920" y="4665600"/>
            <a:ext cx="7489800" cy="1922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 podstawie diagramu określ, które zdanie jest fałszyw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A2BD-FD43-4D02-87AA-1936EBFFC8C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42560" y="3141720"/>
            <a:ext cx="762012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0% uczniów lubi inne desenie niż kratki, kropki i pask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lubionym deseniem dla mniej niż połowy uczniów są kropk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ięcej niż połowa uczniów lubi ubrania we wzorki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lubionym deseniem dla więcej niż połowy uczniów są kratki lub paski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979640" y="620640"/>
            <a:ext cx="489744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4240-0419-41E8-95F5-CEE243A6051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cc66"/>
                </a:solidFill>
                <a:latin typeface="Times New Roman"/>
              </a:rPr>
              <a:t>Diagram procentowy przedstawia wyniki wyborów prezesa klubu sportowego, który liczy 800 członków.</a:t>
            </a:r>
            <a:br>
              <a:rPr sz="2400"/>
            </a:br>
            <a:br>
              <a:rPr sz="2400"/>
            </a:br>
            <a:r>
              <a:rPr b="1" i="1" lang="pl-PL" sz="2000" spc="-1" strike="noStrike">
                <a:solidFill>
                  <a:srgbClr val="ff3300"/>
                </a:solidFill>
                <a:latin typeface="Monotype Corsiva"/>
              </a:rPr>
              <a:t>a</a:t>
            </a:r>
            <a:r>
              <a:rPr b="1" i="1" lang="pl-PL" sz="2400" spc="-1" strike="noStrike">
                <a:solidFill>
                  <a:srgbClr val="ff3300"/>
                </a:solidFill>
                <a:latin typeface="Monotype Corsiva"/>
              </a:rPr>
              <a:t>) Ilu członków klubu nie wzięło udziału w głosowaniu?</a:t>
            </a:r>
            <a:br>
              <a:rPr sz="2400"/>
            </a:br>
            <a:r>
              <a:rPr b="1" i="1" lang="pl-PL" sz="2400" spc="-1" strike="noStrike">
                <a:solidFill>
                  <a:srgbClr val="000099"/>
                </a:solidFill>
                <a:latin typeface="Monotype Corsiva"/>
              </a:rPr>
              <a:t>b) O ilu wyborców więcej głosowało na pana Piotra niż na </a:t>
            </a:r>
            <a:br>
              <a:rPr sz="2400"/>
            </a:br>
            <a:r>
              <a:rPr b="1" i="1" lang="pl-PL" sz="2400" spc="-1" strike="noStrike">
                <a:solidFill>
                  <a:srgbClr val="000099"/>
                </a:solidFill>
                <a:latin typeface="Monotype Corsiva"/>
              </a:rPr>
              <a:t>pana Karola?</a:t>
            </a:r>
            <a:br>
              <a:rPr sz="2400"/>
            </a:br>
            <a:r>
              <a:rPr b="1" i="1" lang="pl-PL" sz="2400" spc="-1" strike="noStrike">
                <a:solidFill>
                  <a:srgbClr val="cccc00"/>
                </a:solidFill>
                <a:latin typeface="Monotype Corsiva"/>
              </a:rPr>
              <a:t>c) Czy L. Pan Karol wygrałby wybory gdyby przekonał do siebie połowę nie biorących udziału w głosowaniu?</a:t>
            </a:r>
            <a:br>
              <a:rPr sz="2400"/>
            </a:b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908000" y="3213000"/>
          <a:ext cx="6172200" cy="34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213000"/>
                    <a:ext cx="617220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09A6-5278-4C16-B09F-3227B410FDBA}" type="slidenum">
              <a:t>34</a:t>
            </a:fld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pl-PL" sz="3200" spc="-1" strike="noStrike">
                <a:solidFill>
                  <a:srgbClr val="00808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14200" y="2349360"/>
            <a:ext cx="28584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a) 160 osó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194200" y="3573360"/>
            <a:ext cx="30290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b) o 80 osó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04360" y="4581360"/>
            <a:ext cx="14698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c) 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12000" y="692280"/>
            <a:ext cx="2884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5292720" y="3284640"/>
            <a:ext cx="3211560" cy="284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041B-F4E5-44C5-8570-42CF871FBE0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30243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Marysia, która bardzo lub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owoce i sery, z pirami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wybrała sobie taki zesta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dzienn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6 porcji - chleb, ryż, maka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3 porcje - jarzyn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4 porcje - owo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3 porcje - mleko, jogurt, s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2 porcje - mięso, jajka, drób, ryb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W sumie mamy 6+3+4+3+2 =1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porcji. Sześć porcji przypada 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chleb, ryż i makaron. Ile to procent 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                     ≈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0,33 = 3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Procenty piramida.gif"/>
          <p:cNvPicPr/>
          <p:nvPr/>
        </p:nvPicPr>
        <p:blipFill>
          <a:blip r:embed="rId1"/>
          <a:stretch/>
        </p:blipFill>
        <p:spPr>
          <a:xfrm>
            <a:off x="3708360" y="1773360"/>
            <a:ext cx="4896000" cy="43765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\frac{6}{18} "/>
          <p:cNvPicPr/>
          <p:nvPr/>
        </p:nvPicPr>
        <p:blipFill>
          <a:blip r:embed="rId2"/>
          <a:stretch/>
        </p:blipFill>
        <p:spPr>
          <a:xfrm>
            <a:off x="1763640" y="5589720"/>
            <a:ext cx="314280" cy="64764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1476360" y="476280"/>
            <a:ext cx="65516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edstawmy dane z piramidy zdrowego odżywiania w postaci procen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9734-DAB5-4403-8810-7BF7412AD35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1042920" y="1699920"/>
            <a:ext cx="36734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ane te przedstaw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iagramie procentowym. Dołącz dane o Twojej szko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zyjmij, że dotyczą one lat zwykłych (365 dni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Procenty flagi dni.gif"/>
          <p:cNvPicPr/>
          <p:nvPr/>
        </p:nvPicPr>
        <p:blipFill>
          <a:blip r:embed="rId1"/>
          <a:stretch/>
        </p:blipFill>
        <p:spPr>
          <a:xfrm>
            <a:off x="4643280" y="1989000"/>
            <a:ext cx="4246560" cy="38941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1187280" y="404640"/>
            <a:ext cx="741708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orzystając z  ilustracji odczytaj ile godzin i 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dni spędzają uczniowie w szk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D6DE-3FA8-4869-9283-0BBACFD5C47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71280" y="476280"/>
            <a:ext cx="417492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00cc"/>
                </a:solidFill>
                <a:latin typeface="Monotype Corsiva"/>
              </a:rPr>
              <a:t>Zadanie  domowe nr 1</a:t>
            </a:r>
            <a:r>
              <a:rPr b="0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Dokończ procentowy diagra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rzedstawiający zdrow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estaw, wybrany przez Marysię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pl-PL" sz="3200" spc="-1" strike="noStrike">
                <a:solidFill>
                  <a:srgbClr val="0000cc"/>
                </a:solidFill>
                <a:latin typeface="Monotype Corsiva"/>
              </a:rPr>
              <a:t>Zadanie domowe nr 2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Wybierz dla Ciebie najleps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estaw jedzenia, który będz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godny z piramidą zdr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odżywiania. Przedstaw go 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rocentowym diagramie.</a:t>
            </a:r>
            <a:r>
              <a:rPr b="0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Procenty def piramida.svg"/>
          <p:cNvPicPr/>
          <p:nvPr/>
        </p:nvPicPr>
        <p:blipFill>
          <a:blip r:embed="rId1"/>
          <a:stretch/>
        </p:blipFill>
        <p:spPr>
          <a:xfrm>
            <a:off x="4859280" y="1413000"/>
            <a:ext cx="3889440" cy="4163760"/>
          </a:xfrm>
          <a:prstGeom prst="rect">
            <a:avLst/>
          </a:prstGeom>
          <a:ln w="0">
            <a:noFill/>
          </a:ln>
        </p:spPr>
      </p:pic>
      <p:sp>
        <p:nvSpPr>
          <p:cNvPr id="525" name="">
            <a:hlinkClick r:id="rId2" action="ppaction://hlinksldjump"/>
          </p:cNvPr>
          <p:cNvSpPr/>
          <p:nvPr/>
        </p:nvSpPr>
        <p:spPr>
          <a:xfrm>
            <a:off x="6877080" y="5877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85F2-84A7-4EBA-BC5F-222A86A8FE8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476360" y="2565360"/>
            <a:ext cx="648036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Jaki to procent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9" name="" descr="Obraz,Plakat - Okres sprzeda&amp;zdot;y"/>
          <p:cNvPicPr/>
          <p:nvPr/>
        </p:nvPicPr>
        <p:blipFill>
          <a:blip r:embed="rId1"/>
          <a:stretch/>
        </p:blipFill>
        <p:spPr>
          <a:xfrm>
            <a:off x="3203640" y="4005360"/>
            <a:ext cx="2952720" cy="196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751B-5A1E-4C94-B530-E2E3BF0F8F1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Na pewno każdy z Was spotkał się z pojęci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procentu, nie tylko w szkole, ale przede wszystki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w życiu codziennym. Jeśli się uważnie rozejrzym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to na każdym kroku dostrzegamy lub słyszy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słowo „procent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3E52-A468-414B-9D5B-A5CCEFFEFA6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0066ff"/>
                </a:solidFill>
                <a:latin typeface="Monotype Corsiva"/>
              </a:rPr>
              <a:t>Jakim procentem I liczby jest liczba II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4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Aby obliczyć, jakim procentem liczby 20 jest liczba 3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                              </a:t>
            </a: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należy : 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najpierw ustalić, jaką częścią liczby 20 jest liczba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     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a następnie zapisać tę część jako procent: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× 100% = 15 %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252360" y="-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211640" y="3213000"/>
                <a:ext cx="50652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771640" y="4365720"/>
                <a:ext cx="5493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 rot="5400000">
            <a:off x="7344360" y="5049000"/>
            <a:ext cx="1584360" cy="360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51280" y="2135160"/>
            <a:ext cx="336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851280" y="2135160"/>
            <a:ext cx="336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51280" y="2135160"/>
            <a:ext cx="336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7020000" y="3357720"/>
          <a:ext cx="1295280" cy="266004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</a:tblGrid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116000" y="500544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3F6-315F-413F-994D-46EE94EA1AA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2670120" cy="346896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4140360" y="83664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obliczyć jakim procen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jednej liczby jest druga liczb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należy drugą liczbę podzielić przez pierwszą i otrzymany</a:t>
            </a:r>
            <a:r>
              <a:rPr b="1" lang="pl-PL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iloraz wyrazić w procentach</a:t>
            </a:r>
            <a:r>
              <a:rPr b="1" lang="pl-PL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50160" y="3716280"/>
            <a:ext cx="604980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Jakim procentem liczby 45 jest liczba 9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476360" y="4941720"/>
                <a:ext cx="66247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FE9F-B01E-455F-83FD-B567B74E5F9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Na parkingu stoi 12 samochodów, 3 cza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i 9 białych. Podaj ile </a:t>
            </a:r>
            <a:r>
              <a:rPr b="1" i="1" lang="pl-PL" sz="3200" spc="-1" strike="noStrike">
                <a:solidFill>
                  <a:srgbClr val="0033cc"/>
                </a:solidFill>
                <a:latin typeface="Monotype Corsiva"/>
              </a:rPr>
              <a:t>procent</a:t>
            </a: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 wszystk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samochodów stanowią samochody czar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79280" y="620640"/>
            <a:ext cx="19836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" descr="procentow"/>
          <p:cNvPicPr/>
          <p:nvPr/>
        </p:nvPicPr>
        <p:blipFill>
          <a:blip r:embed="rId1"/>
          <a:stretch/>
        </p:blipFill>
        <p:spPr>
          <a:xfrm>
            <a:off x="1835280" y="3860640"/>
            <a:ext cx="4824360" cy="16081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14316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F7D7-2433-4674-A542-CB912B222B4A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8900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otrzymał po roku oszczędza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200 zł odsetek od 5000 zł, jakie włożył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roczną lokatę. Jak była oprocentow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lokat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77080" y="620640"/>
            <a:ext cx="21405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9900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3924360" y="3284640"/>
            <a:ext cx="424800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687F-5FB2-4653-9381-040E46B3F26C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9640" y="2349360"/>
            <a:ext cx="774396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Lokata była oprocentowana 4% w skali rok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1116000" y="692280"/>
                <a:ext cx="68407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%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5003640" y="3933720"/>
            <a:ext cx="314352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8F27-9089-419C-8443-AD04271509A0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67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Filip na 70 rzutów do kosza trafia tylk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14 razy. Jaką procentową skutecz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miał Filip?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87640" y="692280"/>
            <a:ext cx="2943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99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2268360" y="3500280"/>
            <a:ext cx="6264360" cy="241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846C-AEA1-43A5-98D0-B05FECC61772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476360" y="1844640"/>
            <a:ext cx="633564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Filip miał 20 % skutecznoś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476360" y="692280"/>
                <a:ext cx="6767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1332000" y="3500280"/>
            <a:ext cx="2585880" cy="25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AE83-F23E-4011-BCC4-2ED94CCA2B72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Zadanie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Podstawowym składnikiem ciała ludzki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jest woda. Ciało człowieka o masie 52k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zawiera około 33,8 kg wody. Jaki proc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masy ciała ludzkiego stanowi woda ?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940360" y="32846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7E71-2A79-4699-816E-1316CD1DEB6A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40000" y="1700280"/>
            <a:ext cx="5545080" cy="2043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imes New Roman"/>
              </a:rPr>
              <a:t>Woda stanowi  65 % masy ciała ludzkieg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344680" y="549360"/>
                <a:ext cx="47419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,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8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5292720" y="3860640"/>
            <a:ext cx="2735280" cy="206712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1258920" y="3357720"/>
            <a:ext cx="2303280" cy="3036600"/>
          </a:xfrm>
          <a:prstGeom prst="rect">
            <a:avLst/>
          </a:prstGeom>
          <a:ln w="0">
            <a:noFill/>
          </a:ln>
        </p:spPr>
      </p:pic>
      <p:sp>
        <p:nvSpPr>
          <p:cNvPr id="580" name="">
            <a:hlinkClick r:id="rId3" action="ppaction://hlinksldjump"/>
          </p:cNvPr>
          <p:cNvSpPr/>
          <p:nvPr/>
        </p:nvSpPr>
        <p:spPr>
          <a:xfrm>
            <a:off x="6804000" y="6093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C606-0A88-4224-8D11-E8975103A7E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826920" y="3068640"/>
            <a:ext cx="777744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odwyżki i obniżki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4" name="" descr="Obraz,Plakat - Promocje -50%"/>
          <p:cNvPicPr/>
          <p:nvPr/>
        </p:nvPicPr>
        <p:blipFill>
          <a:blip r:embed="rId1"/>
          <a:stretch/>
        </p:blipFill>
        <p:spPr>
          <a:xfrm>
            <a:off x="3780000" y="4292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Obraz,Plakat - Promocje -10%"/>
          <p:cNvPicPr/>
          <p:nvPr/>
        </p:nvPicPr>
        <p:blipFill>
          <a:blip r:embed="rId2"/>
          <a:stretch/>
        </p:blipFill>
        <p:spPr>
          <a:xfrm>
            <a:off x="6227640" y="404640"/>
            <a:ext cx="2449800" cy="244980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Obraz,Plakat Réduction Etykieta"/>
          <p:cNvPicPr/>
          <p:nvPr/>
        </p:nvPicPr>
        <p:blipFill>
          <a:blip r:embed="rId3"/>
          <a:stretch/>
        </p:blipFill>
        <p:spPr>
          <a:xfrm>
            <a:off x="971640" y="333360"/>
            <a:ext cx="2952720" cy="23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7CA3-EA65-441E-9F12-3AEA71267BB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3960720" cy="12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Zastosowanie procentów </a:t>
            </a:r>
            <a:br>
              <a:rPr sz="4000"/>
            </a:b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w życiu codziennym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Monotype Corsiva"/>
              </a:rPr>
              <a:t>wycinki prasowe dotyczące wyborów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Monotype Corsiva"/>
              </a:rPr>
              <a:t>ulotki sklepowe o promocjach lub rabatac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Monotype Corsiva"/>
              </a:rPr>
              <a:t>skład procentowy danego produkt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148360" y="260280"/>
            <a:ext cx="3743280" cy="2732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42920" y="479736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659640" y="5157720"/>
            <a:ext cx="1944720" cy="1303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5940360" y="1773360"/>
            <a:ext cx="1333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aktur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 rot="1941600">
            <a:off x="3419640" y="4365720"/>
            <a:ext cx="1514160" cy="22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tykiet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 rot="20536200">
            <a:off x="5508720" y="4653000"/>
            <a:ext cx="3124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gony z kasy 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134D-CACB-4265-9FA1-344D9B84A4E7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Procenty spotkasz wszędzie - w sklepach, bankach, w gazetach, </a:t>
            </a:r>
            <a:br>
              <a:rPr sz="2400"/>
            </a:b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na giełdzie, u jubilera.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588" name="" descr="Procenty rower2.jpg"/>
          <p:cNvPicPr/>
          <p:nvPr/>
        </p:nvPicPr>
        <p:blipFill>
          <a:blip r:embed="rId1"/>
          <a:stretch/>
        </p:blipFill>
        <p:spPr>
          <a:xfrm>
            <a:off x="5796000" y="1413000"/>
            <a:ext cx="2857320" cy="215244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3097440" cy="258120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https://www.santanderconsumer.pl/files/GFX/lokaty/940x500_lokata_direct_internet_4,65_24.jpg"/>
          <p:cNvPicPr/>
          <p:nvPr/>
        </p:nvPicPr>
        <p:blipFill>
          <a:blip r:embed="rId3"/>
          <a:stretch/>
        </p:blipFill>
        <p:spPr>
          <a:xfrm>
            <a:off x="1042920" y="3429000"/>
            <a:ext cx="4824360" cy="25653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Procenty buty1.jpg"/>
          <p:cNvPicPr/>
          <p:nvPr/>
        </p:nvPicPr>
        <p:blipFill>
          <a:blip r:embed="rId4"/>
          <a:stretch/>
        </p:blipFill>
        <p:spPr>
          <a:xfrm>
            <a:off x="4140360" y="2205000"/>
            <a:ext cx="2857320" cy="378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8C79-814C-4F86-8FDE-229BEF87FC00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Obliczanie procentu danej liczby.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Monotype Corsiva"/>
              </a:rPr>
              <a:t>zamieniamy </a:t>
            </a:r>
            <a:r>
              <a:rPr b="1" i="1" lang="pl-PL" sz="3600" spc="-1" strike="noStrike">
                <a:solidFill>
                  <a:srgbClr val="ff0000"/>
                </a:solidFill>
                <a:latin typeface="Monotype Corsiva"/>
              </a:rPr>
              <a:t>procent</a:t>
            </a:r>
            <a:r>
              <a:rPr b="1" lang="pl-PL" sz="3600" spc="-1" strike="noStrike">
                <a:solidFill>
                  <a:srgbClr val="ff0000"/>
                </a:solidFill>
                <a:latin typeface="Monotype Corsiva"/>
              </a:rPr>
              <a:t> na ułam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Monotype Corsiva"/>
              </a:rPr>
              <a:t>ułamek mnożymy przez liczb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procenty"/>
          <p:cNvPicPr/>
          <p:nvPr/>
        </p:nvPicPr>
        <p:blipFill>
          <a:blip r:embed="rId1"/>
          <a:stretch/>
        </p:blipFill>
        <p:spPr>
          <a:xfrm>
            <a:off x="1476360" y="2997360"/>
            <a:ext cx="2448000" cy="12398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procent"/>
          <p:cNvPicPr/>
          <p:nvPr/>
        </p:nvPicPr>
        <p:blipFill>
          <a:blip r:embed="rId2"/>
          <a:stretch/>
        </p:blipFill>
        <p:spPr>
          <a:xfrm>
            <a:off x="1476360" y="4508640"/>
            <a:ext cx="2592360" cy="12506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3"/>
          <a:stretch/>
        </p:blipFill>
        <p:spPr>
          <a:xfrm>
            <a:off x="5219640" y="3068640"/>
            <a:ext cx="2594160" cy="253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65A7-BD47-4764-8857-54A2C0DCFF26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2670120" cy="346896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4356000" y="907920"/>
            <a:ext cx="4127760" cy="2376720"/>
          </a:xfrm>
          <a:prstGeom prst="wedgeRoundRectCallout">
            <a:avLst>
              <a:gd name="adj1" fmla="val -86078"/>
              <a:gd name="adj2" fmla="val 90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Monotype Corsiva"/>
              </a:rPr>
              <a:t>Aby obliczyć procent danej liczby, należy tę liczbę pomnożyć przez ten pro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92360" y="3860640"/>
            <a:ext cx="4572000" cy="1818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licz 15% liczb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88560" y="5084640"/>
            <a:ext cx="7357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221304"/>
                </a:solidFill>
                <a:latin typeface="Times New Roman"/>
              </a:rPr>
              <a:t>15% · 2000= 0,15 · 2000 =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B089-13ED-41DA-A864-4A5414B5331C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92360" y="692280"/>
            <a:ext cx="4572000" cy="3445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Oblicz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a) 15% liczby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b) 7% liczby 12,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6372360" y="3645000"/>
            <a:ext cx="23144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A114-1B0E-4242-B275-976A0DDF6A2E}" type="slidenum">
              <a:t>53</a:t>
            </a:fld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0896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 sklepie sportowym ogłoszo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piętnastoprocentową obniżkę c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cześniej  piłka kosztowała 8 zł, a parasol 24 zł. Ile teraz kosztują te towa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7236000" y="90792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5867280" y="260280"/>
            <a:ext cx="1584360" cy="1584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0" y="261612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0" y="296712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5076720" y="3284640"/>
                <a:ext cx="5097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4" name=""/>
          <p:cNvSpPr/>
          <p:nvPr/>
        </p:nvSpPr>
        <p:spPr>
          <a:xfrm>
            <a:off x="1258920" y="339804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 </a:t>
            </a:r>
            <a:r>
              <a:rPr b="0" lang="pl-PL" sz="2400" spc="-1" strike="noStrike">
                <a:solidFill>
                  <a:srgbClr val="0033cc"/>
                </a:solidFill>
                <a:latin typeface="바탕"/>
                <a:ea typeface="Calibri"/>
              </a:rPr>
              <a:t>Piłka:</a:t>
            </a:r>
            <a:r>
              <a:rPr b="0" lang="pl-PL" sz="2400" spc="-1" strike="noStrike">
                <a:solidFill>
                  <a:srgbClr val="000000"/>
                </a:solidFill>
                <a:latin typeface="Monotype Corsiva"/>
                <a:ea typeface="Calibri"/>
              </a:rPr>
              <a:t>   15% • 8 =                               = 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1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20" y="2691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284720" y="3356640"/>
            <a:ext cx="10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•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8 =</a:t>
            </a:r>
            <a:r>
              <a:rPr b="0" lang="pl-PL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588000" y="34992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8-1,2=</a:t>
            </a:r>
            <a:r>
              <a:rPr b="0" lang="pl-PL" sz="2400" spc="-1" strike="noStrike">
                <a:solidFill>
                  <a:srgbClr val="003399"/>
                </a:solidFill>
                <a:latin typeface="Bookman Old Style"/>
                <a:ea typeface="Calibri"/>
              </a:rPr>
              <a:t>6,8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708360" y="3213000"/>
                <a:ext cx="560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1" name=""/>
          <p:cNvSpPr/>
          <p:nvPr/>
        </p:nvSpPr>
        <p:spPr>
          <a:xfrm>
            <a:off x="1258200" y="4148640"/>
            <a:ext cx="69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lub  100% - 15% = 85%          85%•8 = 0,85•8=6,8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177560" y="4649760"/>
            <a:ext cx="7281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33cc"/>
                </a:solidFill>
                <a:latin typeface="바탕"/>
              </a:rPr>
              <a:t>Parasol: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15% • 24 = 0,15•24=3,6         24-3,6=20,4 zł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lub  85%•24=20,4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53080" y="5659920"/>
            <a:ext cx="78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Odpowiedź: Piłka kosztuje 6,80 zł, a parasol 20,4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9A5B-BFA8-401F-AE88-1DD0BD8103E2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65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 styczniu pensja pana Macieja wynosił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2300 zł. W lipcu przewidziano pięcioprocentową podwyżkę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pan Maciej  będzie zarabiał od trzeciego kwartał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35720" y="3251880"/>
            <a:ext cx="892836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5%•2300=0,05•2300=115 zł.        2300+115=</a:t>
            </a:r>
            <a:r>
              <a:rPr b="0" lang="pl-PL" sz="2800" spc="-1" strike="noStrike">
                <a:solidFill>
                  <a:srgbClr val="0033cc"/>
                </a:solidFill>
                <a:latin typeface="Monotype Corsiva"/>
              </a:rPr>
              <a:t>2415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Monotype Corsiva"/>
              </a:rPr>
              <a:t>lub   100%+5%=105%          105% • 2300 = 1,05•2300=2415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202680" y="4651560"/>
            <a:ext cx="90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Monotype Corsiva"/>
              </a:rPr>
              <a:t>Odpowiedź: </a:t>
            </a: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Od trzeciego kwartału tzn. od lipca pan Macie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                     </a:t>
            </a: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będzie zarabiał 2415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5940360" y="404640"/>
            <a:ext cx="2665440" cy="176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6BC4-8DA7-4F32-8DEB-913B41228305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516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Buty kosztowały 300 zł, staniały najpier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o 20%, a potem jeszcze o 10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te buty kosztują obecn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6012000" y="260280"/>
            <a:ext cx="2736720" cy="205272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760320" y="3209760"/>
            <a:ext cx="73040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80% •  300 = 0,8 • 300 = 240 zł. - cena po I obniż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90% • 240 = 0,9 • 240 = 216 zł. - cena po II obniż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08000" y="3266280"/>
            <a:ext cx="698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Każda kolejna obniżka (podwyżka) ce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tego samego towaru jest już liczo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z innej kwoty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Monotype Corsiva"/>
              </a:rPr>
              <a:t>                 </a:t>
            </a: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Odpowiedź: Obecnie buty kosztują 216 z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1116000" y="4149720"/>
            <a:ext cx="1843200" cy="223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3BA8-1DB9-4144-AE8A-DBB74402FC80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Zadania dodatkowe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Monotype Corsiva"/>
              </a:rPr>
              <a:t>1</a:t>
            </a: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.   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W klasie 1a jest 30 uczniów, dziewczęta stanowią 40% całej klasy, ilu jest chłopcó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pl-PL" sz="2400" spc="-1" strike="noStrike">
                <a:solidFill>
                  <a:srgbClr val="0033cc"/>
                </a:solidFill>
                <a:latin typeface="Monotype Corsiva"/>
              </a:rPr>
              <a:t>2.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 W chórze 8 osób śpiewało basem, a o 25% więcej osób śpiewało altem. Ile osób śpiewało alt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6156360" y="404640"/>
            <a:ext cx="2448000" cy="163044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1332000" y="4005360"/>
            <a:ext cx="2209680" cy="1709640"/>
          </a:xfrm>
          <a:prstGeom prst="rect">
            <a:avLst/>
          </a:prstGeom>
          <a:ln w="0">
            <a:noFill/>
          </a:ln>
        </p:spPr>
      </p:pic>
      <p:sp>
        <p:nvSpPr>
          <p:cNvPr id="639" name="">
            <a:hlinkClick r:id="rId3" action="ppaction://hlinksldjump"/>
          </p:cNvPr>
          <p:cNvSpPr/>
          <p:nvPr/>
        </p:nvSpPr>
        <p:spPr>
          <a:xfrm>
            <a:off x="6948360" y="5877000"/>
            <a:ext cx="1368720" cy="360360"/>
          </a:xfrm>
          <a:custGeom>
            <a:avLst/>
            <a:gdLst>
              <a:gd name="textAreaLeft" fmla="*/ 23040 w 1368720"/>
              <a:gd name="textAreaRight" fmla="*/ 1345680 w 1368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81" h="21600">
                <a:moveTo>
                  <a:pt x="0" y="0"/>
                </a:moveTo>
                <a:lnTo>
                  <a:pt x="81981" y="0"/>
                </a:lnTo>
                <a:lnTo>
                  <a:pt x="81981" y="21600"/>
                </a:lnTo>
                <a:lnTo>
                  <a:pt x="0" y="21600"/>
                </a:lnTo>
                <a:close/>
              </a:path>
              <a:path fill="lightenLess" w="81981" h="21600">
                <a:moveTo>
                  <a:pt x="0" y="0"/>
                </a:moveTo>
                <a:lnTo>
                  <a:pt x="81981" y="0"/>
                </a:lnTo>
                <a:lnTo>
                  <a:pt x="80581" y="1400"/>
                </a:lnTo>
                <a:lnTo>
                  <a:pt x="1400" y="1400"/>
                </a:lnTo>
                <a:close/>
              </a:path>
              <a:path fill="darken" w="81981" h="21600">
                <a:moveTo>
                  <a:pt x="81981" y="0"/>
                </a:moveTo>
                <a:lnTo>
                  <a:pt x="81981" y="21600"/>
                </a:lnTo>
                <a:lnTo>
                  <a:pt x="80581" y="20200"/>
                </a:lnTo>
                <a:lnTo>
                  <a:pt x="80581" y="1400"/>
                </a:lnTo>
                <a:close/>
              </a:path>
              <a:path fill="darkenLess" w="81981" h="21600">
                <a:moveTo>
                  <a:pt x="81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81" y="20200"/>
                </a:lnTo>
                <a:close/>
              </a:path>
              <a:path fill="lighten" w="81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81" h="21600">
                <a:moveTo>
                  <a:pt x="33984" y="3794"/>
                </a:moveTo>
                <a:lnTo>
                  <a:pt x="47997" y="10800"/>
                </a:lnTo>
                <a:lnTo>
                  <a:pt x="33984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4289-D8B6-4863-841C-22239CBBC582}" type="slidenum">
              <a:t>57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476360" y="2133720"/>
            <a:ext cx="720108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 a pieniądz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564000" y="3933720"/>
            <a:ext cx="3143160" cy="20923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971640" y="3573360"/>
            <a:ext cx="2590560" cy="28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C150-35D5-489B-8292-70BFAED000B1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Łatwo jest obliczyć liczbę, gdy znamy jej 50%, 25% czy 10%. Cała liczba to przecież 100%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   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Jeśli 50% procent liczby wynosi 6, to cała liczba jest dwa razy większa, czyli 12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   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Jeśli 25% liczby to 7, wówczas szukaną liczbę obliczamy wykonując mnożenie 7 </a:t>
            </a:r>
            <a:r>
              <a:rPr b="1" lang="pl-PL" sz="2800" spc="-1" strike="noStrike" baseline="30000">
                <a:solidFill>
                  <a:srgbClr val="009900"/>
                </a:solidFill>
                <a:latin typeface="Monotype Corsiva"/>
              </a:rPr>
              <a:t>.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4 = 28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   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Liczba, której 10% wynosi 3, wówczas szukana liczba jest dziesięć razy większa, czyli 30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505-53F9-4D05-B72B-73FABEF38B94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680" y="1773000"/>
            <a:ext cx="45720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Wśród ułamków duże znaczenie, zwłaszcz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w życiu codziennym, mają ułamki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o mianowniku 100. Ułamk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te nazywają się procentam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Procent oznaczamy symbolem</a:t>
            </a:r>
            <a:br>
              <a:rPr sz="3200"/>
            </a:br>
            <a:r>
              <a:rPr b="1" i="1" lang="pl-PL" sz="8000" spc="-1" strike="noStrike">
                <a:solidFill>
                  <a:srgbClr val="cc0099"/>
                </a:solidFill>
                <a:latin typeface="Monotype Corsiva"/>
              </a:rPr>
              <a:t>%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1844640"/>
            <a:ext cx="257004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800" spc="-1" strike="noStrike">
                <a:solidFill>
                  <a:srgbClr val="ff0000"/>
                </a:solidFill>
                <a:latin typeface="Monotype Corsiva"/>
              </a:rPr>
              <a:t>%</a:t>
            </a:r>
            <a:r>
              <a:rPr b="1" i="1" lang="pl-PL" sz="96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pl-PL" sz="8800" spc="-1" strike="noStrike">
                <a:solidFill>
                  <a:srgbClr val="0066ff"/>
                </a:solidFill>
                <a:latin typeface="Monotype Corsiva"/>
              </a:rPr>
              <a:t>         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CC11-2B11-42D8-80E0-BEA6F148C01D}" type="slidenum">
              <a:t>6</a:t>
            </a:fld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Aby obliczyć liczbę, gdy dany jest jej proc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835280" y="3789360"/>
            <a:ext cx="595764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zykła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licz liczbę, której 2% jest równe 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1258920" y="5013360"/>
            <a:ext cx="6985080" cy="12240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995480" cy="259092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4427640" y="1557360"/>
            <a:ext cx="4093920" cy="2087640"/>
          </a:xfrm>
          <a:prstGeom prst="wedgeRoundRectCallout">
            <a:avLst>
              <a:gd name="adj1" fmla="val -91333"/>
              <a:gd name="adj2" fmla="val -7416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Wystarczy podzielić 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przez podany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9D8-99E0-4040-8A7A-28EC3F191C16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58920" y="1052640"/>
            <a:ext cx="7242120" cy="1373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Oblicz liczbę której 5% wynosi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325880" y="2421000"/>
            <a:ext cx="6095520" cy="2593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221304"/>
                </a:solidFill>
                <a:latin typeface="Times New Roman"/>
              </a:rPr>
              <a:t>30 : 5% = 30 : 0,05 = 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Drugi sposó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21304"/>
                </a:solidFill>
                <a:latin typeface="Times New Roman"/>
              </a:rPr>
              <a:t>1% tej liczby wynosi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21304"/>
                </a:solidFill>
                <a:latin typeface="Times New Roman"/>
              </a:rPr>
              <a:t>Stąd 100% = 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3276720" y="4221000"/>
            <a:ext cx="352872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173F-EB15-4262-B713-7ED84BF5CEAF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a1bd69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0% jest równ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25% jest równe 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20 % jest równe 1,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414800" y="765000"/>
            <a:ext cx="6354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najdź liczby, których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5580000" y="3213000"/>
            <a:ext cx="2819520" cy="26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0880-FBBE-40EF-8B00-D2DBF97329DE}" type="slidenum">
              <a:t>62</a:t>
            </a:fld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portmonetce po zakupach zostało 45 zł, co stanow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15% sumy, jaka w niej była przed zakupami. Ile pienięd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było w portmonetce przed zakupam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 rot="20670000">
            <a:off x="5148000" y="3284280"/>
            <a:ext cx="2232000" cy="175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278F-E69C-4B5C-A83B-D9A45BA51C4B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48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Rozwiązanie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45:15%=45:0,15=300 z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332000" y="4149720"/>
            <a:ext cx="5257800" cy="107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21304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 rot="20670000">
            <a:off x="6156000" y="549000"/>
            <a:ext cx="2376360" cy="186984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116000" y="386064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Odpowiedź: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Przed zakupami w portmonetce było 300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5539-3511-4B8B-8EB8-BB772F17672E}" type="slidenum">
              <a:t>64</a:t>
            </a:fld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73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9900"/>
                </a:solidFill>
                <a:latin typeface="Monotype Corsiva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15640" y="1483920"/>
            <a:ext cx="76201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założył w banku lokatę oprocentowan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skali roku na 6%. Ile pieniędzy ulokował jeśli po ro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otrzymał z banku 13250 złotych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6% - oprocent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106% - kwota z odsetk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rot="20371200">
            <a:off x="5651280" y="4005000"/>
            <a:ext cx="2447640" cy="12952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LOK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1B78-40A7-403E-BD51-711A0E571B4A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7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9900"/>
                </a:solidFill>
                <a:latin typeface="Monotype Corsiva"/>
              </a:rPr>
              <a:t>Rozwiąz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325000 : 106% = 1325000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•        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=              = 12500 z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9900"/>
                </a:solidFill>
                <a:latin typeface="Monotype Corsiva"/>
              </a:rPr>
              <a:t>Odpowiedź: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ulokował w bank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                           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kwotę 12500zł.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940360" y="549360"/>
            <a:ext cx="22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rot="20425800">
            <a:off x="4572720" y="836280"/>
            <a:ext cx="2538360" cy="11703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  </a:t>
            </a: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LOK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     </a:t>
            </a: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76360" y="2997360"/>
            <a:ext cx="590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6156360" y="2276640"/>
                <a:ext cx="5605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3132000" y="3429000"/>
                <a:ext cx="12240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25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AED6-F4D1-496A-9894-CDD18AC0AD67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Praca w grupach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Ile pieniędzy należy wpłacić do banku na 11%, jeśli wiadomo, że po upływie roku klient dostał 55 zł. odsetek?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hipermarkecie AS można było kupić owoce w 6% promocji. Cena bananów była o 0,30zł. mniejsza od początkowej. Ile kosztowały one na początku?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i Kasia kupowała wieczorem na targu dwa koszyki jagód. Sprzedawca z powodu późnej pory obniżył ich cenę o 10%. Pani Kasia zapłaciła 19,80zł. Ile przedtem kosztował koszyczek jagó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29C7-3ADD-4681-B360-0158649FB44A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15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Odpowiedzi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Należy wpłacić do banku 500zł.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Na początku banany kosztowały 5z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Koszyczek jagód kosztował na początku 11z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1187280" y="3933720"/>
            <a:ext cx="2592720" cy="194148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4859280" y="3716280"/>
            <a:ext cx="3097440" cy="212580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3"/>
          <a:stretch/>
        </p:blipFill>
        <p:spPr>
          <a:xfrm rot="18664200">
            <a:off x="6659280" y="549000"/>
            <a:ext cx="1708200" cy="1708200"/>
          </a:xfrm>
          <a:prstGeom prst="rect">
            <a:avLst/>
          </a:prstGeom>
          <a:ln w="0">
            <a:noFill/>
          </a:ln>
        </p:spPr>
      </p:pic>
      <p:sp>
        <p:nvSpPr>
          <p:cNvPr id="689" name="">
            <a:hlinkClick r:id="rId4" action="ppaction://hlinksldjump"/>
          </p:cNvPr>
          <p:cNvSpPr/>
          <p:nvPr/>
        </p:nvSpPr>
        <p:spPr>
          <a:xfrm>
            <a:off x="6732720" y="6093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707A-FBD7-4FDF-86AC-EB981681113A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971640" y="1989000"/>
            <a:ext cx="7632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  kalkulator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E28C-9DA6-4352-A1E8-52EE53DDA4DF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16000" y="2060640"/>
            <a:ext cx="43927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 </a:t>
            </a: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Podany </a:t>
            </a:r>
            <a:r>
              <a:rPr b="1" lang="pl-PL" sz="2800" spc="-1" strike="noStrike">
                <a:solidFill>
                  <a:srgbClr val="0000cc"/>
                </a:solidFill>
                <a:latin typeface="Monotype Corsiva"/>
              </a:rPr>
              <a:t>prostokąt podzielono na 100 małych prostokątów – każdy taki prostokącik oznacza 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Co to jest procent?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148360" y="3284640"/>
          <a:ext cx="2514600" cy="2131920"/>
        </p:xfrm>
        <a:graphic>
          <a:graphicData uri="http://schemas.openxmlformats.org/drawingml/2006/table">
            <a:tbl>
              <a:tblPr/>
              <a:tblGrid>
                <a:gridCol w="250920"/>
                <a:gridCol w="252360"/>
                <a:gridCol w="250920"/>
                <a:gridCol w="252360"/>
                <a:gridCol w="250920"/>
                <a:gridCol w="250920"/>
                <a:gridCol w="252360"/>
                <a:gridCol w="250560"/>
                <a:gridCol w="252720"/>
                <a:gridCol w="2505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bf0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411280" y="4149720"/>
                <a:ext cx="182880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DD17-0C54-42F8-884D-73B0A0C56874}" type="slidenum">
              <a:t>7</a:t>
            </a:fld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Wykorzystanie kalkulatora do obliczeń procentowych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Zapoznaj się ze sposobami wykonywa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obliczeń procentowych przy pomo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kalkulatora, a następnie samodzieln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wykonaj oblicze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3995640" y="3213000"/>
            <a:ext cx="3745080" cy="280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FCDB-4FA0-421F-BADF-6F890BA10618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zykłady obliczeń</a:t>
            </a:r>
            <a:r>
              <a:rPr b="0" i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ocentowych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blicz 20% z liczby 8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b) Liczbę 80 powiększ o 1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2665440" cy="48600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2"/>
          <a:stretch/>
        </p:blipFill>
        <p:spPr>
          <a:xfrm>
            <a:off x="2050920" y="3573360"/>
            <a:ext cx="2737080" cy="50004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5076720" y="3573360"/>
            <a:ext cx="3672000" cy="2562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        </a:t>
            </a: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Liczba wprowadz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z klawi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Przycisk dział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Końcowy wynik wyświetlo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na kalkulator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4788000" y="4221000"/>
            <a:ext cx="312480" cy="25884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4"/>
          <a:stretch/>
        </p:blipFill>
        <p:spPr>
          <a:xfrm>
            <a:off x="4788000" y="5013360"/>
            <a:ext cx="312480" cy="24444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5"/>
          <a:stretch/>
        </p:blipFill>
        <p:spPr>
          <a:xfrm>
            <a:off x="4788000" y="5589720"/>
            <a:ext cx="312480" cy="25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13FE-B428-44D5-A840-C2C3FF888192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zykłady obliczeń</a:t>
            </a:r>
            <a:r>
              <a:rPr b="0" i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ocentowych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c) Liczbę 80 zmniejsz 0 1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) Jakim procentem liczby 80 jest liczba 2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484360" y="3645000"/>
            <a:ext cx="6264360" cy="2014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                            </a:t>
            </a: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Liczba wprowadzona z klawi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Przycisk dział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Końcowy wynik wyświetlony na kalkulator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3635280" y="4292640"/>
            <a:ext cx="312840" cy="25884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2"/>
          <a:stretch/>
        </p:blipFill>
        <p:spPr>
          <a:xfrm>
            <a:off x="3635280" y="4797360"/>
            <a:ext cx="312840" cy="24444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3"/>
          <a:stretch/>
        </p:blipFill>
        <p:spPr>
          <a:xfrm>
            <a:off x="3635280" y="5300640"/>
            <a:ext cx="312840" cy="25884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4"/>
          <a:stretch/>
        </p:blipFill>
        <p:spPr>
          <a:xfrm>
            <a:off x="1116000" y="2421000"/>
            <a:ext cx="3097080" cy="565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5"/>
          <a:stretch/>
        </p:blipFill>
        <p:spPr>
          <a:xfrm>
            <a:off x="1187280" y="3645000"/>
            <a:ext cx="3024360" cy="55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9E4A-DBF0-4632-B7B4-A60C054DB84E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cc0099"/>
                </a:solidFill>
                <a:latin typeface="Monotype Corsiva"/>
              </a:rPr>
              <a:t>Oblicz, korzystając z kalkulatora.</a:t>
            </a: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036800" y="1989000"/>
            <a:ext cx="48848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15% z liczby 250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394280" y="2997360"/>
            <a:ext cx="55857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0,6% z liczby 30000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610640" y="4149720"/>
            <a:ext cx="67042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liczbę 60 powiększ o 7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494B-98A5-4B2A-8F9A-C686FF74AC1F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cc0099"/>
                </a:solidFill>
                <a:latin typeface="Monotype Corsiva"/>
              </a:rPr>
              <a:t>Oblicz, korzystając z kalkulatora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89920" y="1916280"/>
            <a:ext cx="7265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liczbę 16,8 powiększ o 7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035000" y="2997360"/>
            <a:ext cx="6718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zmniejsz o 20% liczbę 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4360" y="4149720"/>
            <a:ext cx="7837200" cy="143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jakim procentem liczby 15 jest liczba 1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DC48-C6C4-4184-BC33-C1ECD8324B4B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łaszcz kosztował 280zł. Ile kosztuje ten płaszcz po 30% obniż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Książka, która kosztowała 36 zł, podrożała o 15%. Ile kosztuje teraz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Rower kosztował 540 zł. Po obniżce kosztuje 459zł. O ile procent obniżono cen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Do sklepu zakupiono 120kg. jabłek, z czego sprzedano 117kg. Ile procent jabłek nie sprzeda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68360" y="692280"/>
            <a:ext cx="51832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Zadania dla gr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5"/>
          <a:stretch/>
        </p:blipFill>
        <p:spPr>
          <a:xfrm>
            <a:off x="6732720" y="5229360"/>
            <a:ext cx="1512720" cy="115092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6"/>
          <a:stretch/>
        </p:blipFill>
        <p:spPr>
          <a:xfrm>
            <a:off x="5076720" y="4076640"/>
            <a:ext cx="1079640" cy="66852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7"/>
          <a:stretch/>
        </p:blipFill>
        <p:spPr>
          <a:xfrm>
            <a:off x="7451640" y="3068640"/>
            <a:ext cx="936720" cy="70344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8"/>
          <a:stretch/>
        </p:blipFill>
        <p:spPr>
          <a:xfrm rot="19172400">
            <a:off x="7380000" y="404640"/>
            <a:ext cx="906480" cy="136692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 txBox="1"/>
          <p:nvPr/>
        </p:nvSpPr>
        <p:spPr>
          <a:xfrm>
            <a:off x="8028000" y="260280"/>
            <a:ext cx="790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-30%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7020000" y="3213000"/>
            <a:ext cx="56196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+15%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D8CB-990D-458A-994B-75E844165FBF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ani Nowak marzy o tym, aby utrzymywać się z odsetek bankowych. Jaką kwotę musiałaby wpłacić na roczną lokatę oprocentowaną 5%, aby co roku otrzymywać odsetki w wysokości 18000z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2"/>
          <a:stretch/>
        </p:blipFill>
        <p:spPr>
          <a:xfrm>
            <a:off x="1187280" y="3573360"/>
            <a:ext cx="2372040" cy="280692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1805760" y="765000"/>
            <a:ext cx="50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바탕"/>
              </a:rPr>
              <a:t>Zadania dla grup c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DBE2-A05C-4A47-AD8F-D5F10B082A90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       </a:t>
            </a: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Odpowiedzi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łaszcz kosztuje 196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siążka kosztuje 41,4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enę roweru obniżono o 1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ie sprzedano 15% jabł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ni Nowak musiałaby wpłacić 360000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1979640" y="4292640"/>
            <a:ext cx="1469880" cy="221760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2"/>
          <a:stretch/>
        </p:blipFill>
        <p:spPr>
          <a:xfrm>
            <a:off x="6156360" y="4437000"/>
            <a:ext cx="2087640" cy="12924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3"/>
          <a:stretch/>
        </p:blipFill>
        <p:spPr>
          <a:xfrm>
            <a:off x="3995640" y="4437000"/>
            <a:ext cx="1871640" cy="14223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4"/>
          <a:stretch/>
        </p:blipFill>
        <p:spPr>
          <a:xfrm>
            <a:off x="6877080" y="1773360"/>
            <a:ext cx="1701720" cy="201456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5"/>
          <a:stretch/>
        </p:blipFill>
        <p:spPr>
          <a:xfrm rot="21161400">
            <a:off x="5724000" y="404640"/>
            <a:ext cx="2089440" cy="1568520"/>
          </a:xfrm>
          <a:prstGeom prst="rect">
            <a:avLst/>
          </a:prstGeom>
          <a:ln w="0">
            <a:noFill/>
          </a:ln>
        </p:spPr>
      </p:pic>
      <p:sp>
        <p:nvSpPr>
          <p:cNvPr id="742" name="">
            <a:hlinkClick r:id="rId6" action="ppaction://hlinksldjump"/>
          </p:cNvPr>
          <p:cNvSpPr/>
          <p:nvPr/>
        </p:nvSpPr>
        <p:spPr>
          <a:xfrm>
            <a:off x="6659640" y="6093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0016-07E6-4A07-853F-CA726A1AA515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Obraz,Plakat - obroty"/>
          <p:cNvPicPr/>
          <p:nvPr/>
        </p:nvPicPr>
        <p:blipFill>
          <a:blip r:embed="rId1"/>
          <a:stretch/>
        </p:blipFill>
        <p:spPr>
          <a:xfrm>
            <a:off x="3564000" y="3500280"/>
            <a:ext cx="2520720" cy="25210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 txBox="1"/>
          <p:nvPr/>
        </p:nvSpPr>
        <p:spPr>
          <a:xfrm>
            <a:off x="1476360" y="1916280"/>
            <a:ext cx="7056360" cy="13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iczby, procenty i życie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0431-165A-41EC-9DD2-E07F4D0DC7F4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61976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Według danych GUS powierzchnia Polski, wynoszą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31,3 mln ha, jest  w głównej mierze wykorzystywana p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produkcję rolniczą oraz pokryta przez lasy. Wedłu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ewidencji geodezyjnej z 1 stycznia 2003r. użytki rol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i leśne, stanowiące tzw. użytki biotyczne, zajmował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</a:t>
            </a: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około 91% powierzchni kraj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3132000" y="692280"/>
            <a:ext cx="24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adani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29084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5CF0-1514-4C95-923F-B719B735B4C7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340000" y="836640"/>
          <a:ext cx="5410080" cy="5175360"/>
        </p:xfrm>
        <a:graphic>
          <a:graphicData uri="http://schemas.openxmlformats.org/drawingml/2006/table">
            <a:tbl>
              <a:tblPr/>
              <a:tblGrid>
                <a:gridCol w="541440"/>
                <a:gridCol w="541080"/>
                <a:gridCol w="540000"/>
                <a:gridCol w="541080"/>
                <a:gridCol w="541440"/>
                <a:gridCol w="541440"/>
                <a:gridCol w="541440"/>
                <a:gridCol w="539640"/>
                <a:gridCol w="496800"/>
                <a:gridCol w="5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 flipH="1" flipV="1">
            <a:off x="1476360" y="476280"/>
            <a:ext cx="100800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332000" y="2133360"/>
            <a:ext cx="10792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1692360" y="4292280"/>
            <a:ext cx="12240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093080" y="2997360"/>
            <a:ext cx="10778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4211280" y="765000"/>
            <a:ext cx="431640" cy="115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907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2492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16360" y="450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27640" y="1916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88000" y="3429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efde3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60280"/>
            <a:ext cx="7920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1  </a:t>
            </a:r>
            <a:r>
              <a:rPr b="0" lang="pl-PL" sz="1600" spc="-1" strike="noStrike" u="sng">
                <a:solidFill>
                  <a:srgbClr val="ffffff"/>
                </a:solidFill>
                <a:uFillTx/>
                <a:latin typeface="Arial"/>
              </a:rPr>
              <a:t>--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08360" y="260280"/>
            <a:ext cx="685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1773360"/>
            <a:ext cx="7923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4  </a:t>
            </a:r>
            <a:r>
              <a:rPr b="0" lang="pl-PL" sz="1600" spc="-1" strike="noStrike" u="sng">
                <a:solidFill>
                  <a:srgbClr val="ffffff"/>
                </a:solidFill>
                <a:uFillTx/>
                <a:latin typeface="Arial"/>
              </a:rPr>
              <a:t>--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28000" y="2708280"/>
            <a:ext cx="685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5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3860640"/>
            <a:ext cx="685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2E23-3F89-4A7B-BFA0-DC9B0AFB7D97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milionów hektarów zajmują użytk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biotycz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i procent powierzchni Polski zajmują pozostałe tereny? Jaka               to powierzchn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Lasy pod koniec 2002 roku stanowiły 28,5% powierzchni Polski. Ile  to milionów hektaró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i procent lasów stanowią drzewostany iglas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i procent lasów stanowią drzewostany liścias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śród lasów iglastych dominują lasy sosnowe i modrzewiowe.                   Ile hektarów zajmują tereny porośnięte sosnami i modrzewiam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procent kraju zajmują buki i olc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1332000" y="620640"/>
            <a:ext cx="388764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adanie c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8"/>
          <a:stretch/>
        </p:blipFill>
        <p:spPr>
          <a:xfrm>
            <a:off x="5796000" y="260280"/>
            <a:ext cx="2979720" cy="257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9372-D5F1-437D-A57D-36405F2E563E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Jurek wybiera się na wycieczkę z Krakowa (20</a:t>
            </a:r>
            <a:r>
              <a:rPr b="1" lang="pl-PL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o Barcelony (2</a:t>
            </a:r>
            <a:r>
              <a:rPr b="1" lang="pl-PL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E). Chłopiec pamiętał, że ob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miejscowości leżą po tej same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stronie południka 0</a:t>
            </a:r>
            <a:r>
              <a:rPr b="1" lang="pl-PL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Krakowie jest godzina 9: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czasu słonecznego, któ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będzie godzina w tym samy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momencie w Barcelon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Plik:Cadran solaire St Marys Basilica 01 AB.jpg"/>
          <p:cNvPicPr/>
          <p:nvPr/>
        </p:nvPicPr>
        <p:blipFill>
          <a:blip r:embed="rId1"/>
          <a:stretch/>
        </p:blipFill>
        <p:spPr>
          <a:xfrm>
            <a:off x="5435640" y="2781360"/>
            <a:ext cx="290844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DD07-CA6F-4D12-8240-B665227FBDDA}" type="slidenum">
              <a:t>81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8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Mama Jurka kupiła synowi bilet na samolot w 2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omocji. Zaoszczędziła 128zł. Ile zapłaciłaby kobiet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gdyby cena biletu nie była obniżo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 rot="20237400">
            <a:off x="5003640" y="3141360"/>
            <a:ext cx="296100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49DF-3B61-44E3-B81A-8897196DA4C7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393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Dzień wcześniej Jurek poszedł na zakupy do poblisk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sklepu. Chciał kupić sobie na drogę trzy soki owocow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 sklepie były właśnie ciekawe obniżki. Zainteresowa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chłopca wzbudziła następująca promocj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pl-PL" sz="2400" spc="-1" strike="noStrike">
                <a:solidFill>
                  <a:srgbClr val="0033cc"/>
                </a:solidFill>
                <a:latin typeface="Times New Roman"/>
              </a:rPr>
              <a:t>2,20zł.                                             1,80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Który sok powinien wybrać Jurek aby zaoszczędzić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ą sumę zapłaci  w sklep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4788000" y="476280"/>
            <a:ext cx="3781440" cy="1081080"/>
          </a:xfrm>
          <a:prstGeom prst="rect">
            <a:avLst/>
          </a:prstGeom>
          <a:ln w="0">
            <a:noFill/>
          </a:ln>
        </p:spPr>
      </p:pic>
      <p:pic>
        <p:nvPicPr>
          <p:cNvPr id="764" name="irc_mi" descr=""/>
          <p:cNvPicPr/>
          <p:nvPr/>
        </p:nvPicPr>
        <p:blipFill>
          <a:blip r:embed="rId2"/>
          <a:stretch/>
        </p:blipFill>
        <p:spPr>
          <a:xfrm>
            <a:off x="1476360" y="3429000"/>
            <a:ext cx="1584360" cy="1398600"/>
          </a:xfrm>
          <a:prstGeom prst="rect">
            <a:avLst/>
          </a:prstGeom>
          <a:ln w="0">
            <a:noFill/>
          </a:ln>
        </p:spPr>
      </p:pic>
      <p:pic>
        <p:nvPicPr>
          <p:cNvPr id="765" name="irc_mi" descr=""/>
          <p:cNvPicPr/>
          <p:nvPr/>
        </p:nvPicPr>
        <p:blipFill>
          <a:blip r:embed="rId3"/>
          <a:stretch/>
        </p:blipFill>
        <p:spPr>
          <a:xfrm>
            <a:off x="5724360" y="3284640"/>
            <a:ext cx="1508400" cy="150804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 txBox="1"/>
          <p:nvPr/>
        </p:nvSpPr>
        <p:spPr>
          <a:xfrm rot="741000">
            <a:off x="2623680" y="3298320"/>
            <a:ext cx="1297080" cy="11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30%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67" name=""/>
          <p:cNvSpPr txBox="1"/>
          <p:nvPr/>
        </p:nvSpPr>
        <p:spPr>
          <a:xfrm rot="1188600">
            <a:off x="7019640" y="3068640"/>
            <a:ext cx="1297080" cy="11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20%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0059-6AAD-476F-A603-B15E99538D8D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Jurek wraz z rodzicami musi dojechać samochodem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krakowskie lotnisko Balice. Mają do pokonania tras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120km. Tata Jurka zwykle jedzie ze średnią prędkości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80km/h. Samolot startuje o godzinie 9:00. O które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najpóźniej powinni wyjechać aby Jurek nie spóźnił się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biorąc pod uwagę 20 minutową odpraw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4859280" y="682560"/>
            <a:ext cx="3745080" cy="205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ED5F-051A-488B-A1DE-7736AAB381F7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gadka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Janek stanowi 20% swojej rodziny, 40% je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rodziny to dorośli, 60% stanowią dzieci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60% to kobiety, a 40% to mężczyźn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Ile sióstr ma Janek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4500720" y="3716280"/>
            <a:ext cx="3441600" cy="230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D3CC-8D9E-4037-8BC6-C4F76BCF3FCA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71640" y="1752120"/>
            <a:ext cx="79214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http://www.matemaks.pl/proc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http://chomikuj.pl/mabram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http://www.math.edu.pl/proc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1"/>
              </a:rPr>
              <a:t>http://wiki.wolnepodreczniki.pl/Matematyka:Gimnazjum/Procenty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2"/>
              </a:rPr>
              <a:t>www.fajslawice.internetdsl.pl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3"/>
              </a:rPr>
              <a:t>/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4"/>
              </a:rPr>
              <a:t>pgf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5"/>
              </a:rPr>
              <a:t>/mat/prezentacje/proc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Monotype Corsiva"/>
              </a:rPr>
              <a:t>pl.wikipedia.org</a:t>
            </a: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476360" y="404640"/>
            <a:ext cx="69134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Materiały pochodzą z Platformy Edukacyjnej Porta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05AD-EB85-4AE4-AAEC-2F4A3013DF6B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916360" y="2276640"/>
            <a:ext cx="28080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0099"/>
                </a:solidFill>
                <a:latin typeface="Times New Roman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5508720" y="2997360"/>
            <a:ext cx="3028680" cy="3097080"/>
          </a:xfrm>
          <a:prstGeom prst="rect">
            <a:avLst/>
          </a:prstGeom>
          <a:ln w="0">
            <a:noFill/>
          </a:ln>
        </p:spPr>
      </p:pic>
      <p:sp>
        <p:nvSpPr>
          <p:cNvPr id="781" name="">
            <a:hlinkClick r:id="rId2" action="ppaction://hlinksldjump"/>
          </p:cNvPr>
          <p:cNvSpPr/>
          <p:nvPr/>
        </p:nvSpPr>
        <p:spPr>
          <a:xfrm>
            <a:off x="6732720" y="616572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07FA-85D1-4043-A567-14AC1093E79F}" type="slidenum">
              <a:t>87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 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Procenty definicja.svg"/>
          <p:cNvPicPr/>
          <p:nvPr/>
        </p:nvPicPr>
        <p:blipFill>
          <a:blip r:embed="rId1"/>
          <a:stretch/>
        </p:blipFill>
        <p:spPr>
          <a:xfrm>
            <a:off x="1332000" y="1700280"/>
            <a:ext cx="6912000" cy="4251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033920" y="691200"/>
            <a:ext cx="75538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Na obrazku widzisz 100 kredek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C9F2-754D-4827-9D99-ABED6DE9484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tematyka</cp:lastModifiedBy>
  <dcterms:modified xsi:type="dcterms:W3CDTF">2013-04-07T16:03:31Z</dcterms:modified>
  <cp:revision>278</cp:revision>
  <dc:subject/>
  <dc:title>Prezentacja programu PowerPoint</dc:title>
</cp:coreProperties>
</file>